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764338" cy="98853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3776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3260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4292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3776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3260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681000" y="66600"/>
            <a:ext cx="1701720" cy="69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3776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3260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4292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3776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3260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81000" y="66600"/>
            <a:ext cx="1701720" cy="69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123840" y="6448320"/>
            <a:ext cx="4695840" cy="408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roduction to Cryptographic Termin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8265960" y="6486480"/>
            <a:ext cx="1162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0480" rIns="60480" tIns="23760" bIns="23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fld id="{AD0CDCCC-8F2A-4536-8000-7093FA767658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601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8160" indent="-16344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-16056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2840" indent="-1605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2840" indent="-1605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76320" y="501480"/>
            <a:ext cx="8991360" cy="0"/>
          </a:xfrm>
          <a:prstGeom prst="line">
            <a:avLst/>
          </a:prstGeom>
          <a:ln w="57240">
            <a:solidFill>
              <a:srgbClr val="2b7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461280"/>
            <a:ext cx="8991360" cy="0"/>
          </a:xfrm>
          <a:prstGeom prst="line">
            <a:avLst/>
          </a:prstGeom>
          <a:ln w="57240">
            <a:solidFill>
              <a:srgbClr val="2b7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42920" y="121932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65960" y="6486480"/>
            <a:ext cx="1162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0480" rIns="60480" tIns="23760" bIns="23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fld id="{36055A59-AB86-4633-82BF-1E5B645C4EB5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84120" indent="0" algn="ctr">
              <a:spcBef>
                <a:spcPts val="499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14240" algn="ctr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44720" algn="ctr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22280" algn="ctr">
              <a:spcBef>
                <a:spcPts val="24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 marL="1322280"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 marL="1322280"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2920" y="1218960"/>
            <a:ext cx="8858160" cy="98100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troduction to Cryptographic Terminolog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42920" y="239508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920" y="6529320"/>
            <a:ext cx="5410080" cy="2811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6094440"/>
            <a:ext cx="3071880" cy="758880"/>
          </a:xfrm>
          <a:prstGeom prst="rect">
            <a:avLst/>
          </a:prstGeom>
          <a:ln w="0">
            <a:noFill/>
          </a:ln>
        </p:spPr>
      </p:pic>
      <p:grpSp>
        <p:nvGrpSpPr>
          <p:cNvPr id="85" name=""/>
          <p:cNvGrpSpPr/>
          <p:nvPr/>
        </p:nvGrpSpPr>
        <p:grpSpPr>
          <a:xfrm>
            <a:off x="3886200" y="2362320"/>
            <a:ext cx="1371600" cy="2232000"/>
            <a:chOff x="3886200" y="2362320"/>
            <a:chExt cx="1371600" cy="2232000"/>
          </a:xfrm>
        </p:grpSpPr>
        <p:grpSp>
          <p:nvGrpSpPr>
            <p:cNvPr id="86" name=""/>
            <p:cNvGrpSpPr/>
            <p:nvPr/>
          </p:nvGrpSpPr>
          <p:grpSpPr>
            <a:xfrm>
              <a:off x="4038480" y="3146400"/>
              <a:ext cx="136440" cy="136440"/>
              <a:chOff x="4038480" y="3146400"/>
              <a:chExt cx="136440" cy="136440"/>
            </a:xfrm>
          </p:grpSpPr>
          <p:sp>
            <p:nvSpPr>
              <p:cNvPr id="87" name=""/>
              <p:cNvSpPr/>
              <p:nvPr/>
            </p:nvSpPr>
            <p:spPr>
              <a:xfrm>
                <a:off x="4038480" y="3146400"/>
                <a:ext cx="136440" cy="136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4051080" y="3149280"/>
                <a:ext cx="95400" cy="104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" name=""/>
            <p:cNvGrpSpPr/>
            <p:nvPr/>
          </p:nvGrpSpPr>
          <p:grpSpPr>
            <a:xfrm>
              <a:off x="4038480" y="3390840"/>
              <a:ext cx="136440" cy="136440"/>
              <a:chOff x="4038480" y="3390840"/>
              <a:chExt cx="136440" cy="136440"/>
            </a:xfrm>
          </p:grpSpPr>
          <p:sp>
            <p:nvSpPr>
              <p:cNvPr id="90" name=""/>
              <p:cNvSpPr/>
              <p:nvPr/>
            </p:nvSpPr>
            <p:spPr>
              <a:xfrm>
                <a:off x="4038480" y="3390840"/>
                <a:ext cx="136440" cy="136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4051080" y="3393720"/>
                <a:ext cx="95400" cy="104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" name=""/>
            <p:cNvGrpSpPr/>
            <p:nvPr/>
          </p:nvGrpSpPr>
          <p:grpSpPr>
            <a:xfrm>
              <a:off x="4038480" y="3603600"/>
              <a:ext cx="136440" cy="136440"/>
              <a:chOff x="4038480" y="3603600"/>
              <a:chExt cx="136440" cy="136440"/>
            </a:xfrm>
          </p:grpSpPr>
          <p:sp>
            <p:nvSpPr>
              <p:cNvPr id="93" name=""/>
              <p:cNvSpPr/>
              <p:nvPr/>
            </p:nvSpPr>
            <p:spPr>
              <a:xfrm>
                <a:off x="4038480" y="3603600"/>
                <a:ext cx="136440" cy="136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4051080" y="3606480"/>
                <a:ext cx="95400" cy="104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" name=""/>
            <p:cNvGrpSpPr/>
            <p:nvPr/>
          </p:nvGrpSpPr>
          <p:grpSpPr>
            <a:xfrm>
              <a:off x="4038480" y="3848040"/>
              <a:ext cx="136440" cy="136440"/>
              <a:chOff x="4038480" y="3848040"/>
              <a:chExt cx="136440" cy="136440"/>
            </a:xfrm>
          </p:grpSpPr>
          <p:sp>
            <p:nvSpPr>
              <p:cNvPr id="96" name=""/>
              <p:cNvSpPr/>
              <p:nvPr/>
            </p:nvSpPr>
            <p:spPr>
              <a:xfrm>
                <a:off x="4038480" y="3848040"/>
                <a:ext cx="136440" cy="136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4051080" y="3850920"/>
                <a:ext cx="95400" cy="104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" name=""/>
            <p:cNvGrpSpPr/>
            <p:nvPr/>
          </p:nvGrpSpPr>
          <p:grpSpPr>
            <a:xfrm>
              <a:off x="4038480" y="4076640"/>
              <a:ext cx="136440" cy="136440"/>
              <a:chOff x="4038480" y="4076640"/>
              <a:chExt cx="136440" cy="136440"/>
            </a:xfrm>
          </p:grpSpPr>
          <p:sp>
            <p:nvSpPr>
              <p:cNvPr id="99" name=""/>
              <p:cNvSpPr/>
              <p:nvPr/>
            </p:nvSpPr>
            <p:spPr>
              <a:xfrm>
                <a:off x="4038480" y="4076640"/>
                <a:ext cx="136440" cy="136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4051080" y="4079520"/>
                <a:ext cx="95400" cy="104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" name=""/>
            <p:cNvGrpSpPr/>
            <p:nvPr/>
          </p:nvGrpSpPr>
          <p:grpSpPr>
            <a:xfrm>
              <a:off x="4968720" y="3146400"/>
              <a:ext cx="136440" cy="136440"/>
              <a:chOff x="4968720" y="3146400"/>
              <a:chExt cx="136440" cy="136440"/>
            </a:xfrm>
          </p:grpSpPr>
          <p:sp>
            <p:nvSpPr>
              <p:cNvPr id="102" name=""/>
              <p:cNvSpPr/>
              <p:nvPr/>
            </p:nvSpPr>
            <p:spPr>
              <a:xfrm>
                <a:off x="4968720" y="3146400"/>
                <a:ext cx="136440" cy="136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4981320" y="3149280"/>
                <a:ext cx="95400" cy="104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4" name=""/>
            <p:cNvGrpSpPr/>
            <p:nvPr/>
          </p:nvGrpSpPr>
          <p:grpSpPr>
            <a:xfrm>
              <a:off x="4968720" y="3390840"/>
              <a:ext cx="136440" cy="136440"/>
              <a:chOff x="4968720" y="3390840"/>
              <a:chExt cx="136440" cy="136440"/>
            </a:xfrm>
          </p:grpSpPr>
          <p:sp>
            <p:nvSpPr>
              <p:cNvPr id="105" name=""/>
              <p:cNvSpPr/>
              <p:nvPr/>
            </p:nvSpPr>
            <p:spPr>
              <a:xfrm>
                <a:off x="4968720" y="3390840"/>
                <a:ext cx="136440" cy="136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4981320" y="3393720"/>
                <a:ext cx="95400" cy="104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4968720" y="3603600"/>
              <a:ext cx="136440" cy="136440"/>
              <a:chOff x="4968720" y="3603600"/>
              <a:chExt cx="136440" cy="136440"/>
            </a:xfrm>
          </p:grpSpPr>
          <p:sp>
            <p:nvSpPr>
              <p:cNvPr id="108" name=""/>
              <p:cNvSpPr/>
              <p:nvPr/>
            </p:nvSpPr>
            <p:spPr>
              <a:xfrm>
                <a:off x="4968720" y="3603600"/>
                <a:ext cx="136440" cy="136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981320" y="3606480"/>
                <a:ext cx="95400" cy="104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0" name=""/>
            <p:cNvGrpSpPr/>
            <p:nvPr/>
          </p:nvGrpSpPr>
          <p:grpSpPr>
            <a:xfrm>
              <a:off x="4968720" y="3848040"/>
              <a:ext cx="136440" cy="136440"/>
              <a:chOff x="4968720" y="3848040"/>
              <a:chExt cx="136440" cy="136440"/>
            </a:xfrm>
          </p:grpSpPr>
          <p:sp>
            <p:nvSpPr>
              <p:cNvPr id="111" name=""/>
              <p:cNvSpPr/>
              <p:nvPr/>
            </p:nvSpPr>
            <p:spPr>
              <a:xfrm>
                <a:off x="4968720" y="3848040"/>
                <a:ext cx="136440" cy="136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4981320" y="3850920"/>
                <a:ext cx="95400" cy="104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3" name=""/>
            <p:cNvGrpSpPr/>
            <p:nvPr/>
          </p:nvGrpSpPr>
          <p:grpSpPr>
            <a:xfrm>
              <a:off x="4968720" y="4076640"/>
              <a:ext cx="136440" cy="136440"/>
              <a:chOff x="4968720" y="4076640"/>
              <a:chExt cx="136440" cy="136440"/>
            </a:xfrm>
          </p:grpSpPr>
          <p:sp>
            <p:nvSpPr>
              <p:cNvPr id="114" name=""/>
              <p:cNvSpPr/>
              <p:nvPr/>
            </p:nvSpPr>
            <p:spPr>
              <a:xfrm>
                <a:off x="4968720" y="4076640"/>
                <a:ext cx="136440" cy="136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4981320" y="4079520"/>
                <a:ext cx="95400" cy="104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6" name=""/>
            <p:cNvGrpSpPr/>
            <p:nvPr/>
          </p:nvGrpSpPr>
          <p:grpSpPr>
            <a:xfrm>
              <a:off x="4419720" y="3338640"/>
              <a:ext cx="304560" cy="838080"/>
              <a:chOff x="4419720" y="3338640"/>
              <a:chExt cx="304560" cy="838080"/>
            </a:xfrm>
          </p:grpSpPr>
          <p:sp>
            <p:nvSpPr>
              <p:cNvPr id="117" name=""/>
              <p:cNvSpPr/>
              <p:nvPr/>
            </p:nvSpPr>
            <p:spPr>
              <a:xfrm>
                <a:off x="4419720" y="3338640"/>
                <a:ext cx="304560" cy="3049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4419720" y="3567240"/>
                <a:ext cx="304560" cy="609480"/>
              </a:xfrm>
              <a:custGeom>
                <a:avLst/>
                <a:gdLst/>
                <a:ahLst/>
                <a:rect l="l" t="t" r="r" b="b"/>
                <a:pathLst>
                  <a:path w="192" h="384">
                    <a:moveTo>
                      <a:pt x="48" y="0"/>
                    </a:moveTo>
                    <a:lnTo>
                      <a:pt x="0" y="384"/>
                    </a:lnTo>
                    <a:lnTo>
                      <a:pt x="192" y="384"/>
                    </a:lnTo>
                    <a:lnTo>
                      <a:pt x="144" y="0"/>
                    </a:lnTo>
                    <a:lnTo>
                      <a:pt x="48" y="0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" name=""/>
            <p:cNvGrpSpPr/>
            <p:nvPr/>
          </p:nvGrpSpPr>
          <p:grpSpPr>
            <a:xfrm>
              <a:off x="4968720" y="4305240"/>
              <a:ext cx="136440" cy="136440"/>
              <a:chOff x="4968720" y="4305240"/>
              <a:chExt cx="136440" cy="136440"/>
            </a:xfrm>
          </p:grpSpPr>
          <p:sp>
            <p:nvSpPr>
              <p:cNvPr id="120" name=""/>
              <p:cNvSpPr/>
              <p:nvPr/>
            </p:nvSpPr>
            <p:spPr>
              <a:xfrm>
                <a:off x="4968720" y="4305240"/>
                <a:ext cx="136440" cy="136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981320" y="4308120"/>
                <a:ext cx="95400" cy="104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2" name=""/>
            <p:cNvGrpSpPr/>
            <p:nvPr/>
          </p:nvGrpSpPr>
          <p:grpSpPr>
            <a:xfrm>
              <a:off x="4038480" y="4305240"/>
              <a:ext cx="136440" cy="136440"/>
              <a:chOff x="4038480" y="4305240"/>
              <a:chExt cx="136440" cy="136440"/>
            </a:xfrm>
          </p:grpSpPr>
          <p:sp>
            <p:nvSpPr>
              <p:cNvPr id="123" name=""/>
              <p:cNvSpPr/>
              <p:nvPr/>
            </p:nvSpPr>
            <p:spPr>
              <a:xfrm>
                <a:off x="4038480" y="4305240"/>
                <a:ext cx="136440" cy="136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4051080" y="4308120"/>
                <a:ext cx="95400" cy="104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5" name=""/>
            <p:cNvSpPr/>
            <p:nvPr/>
          </p:nvSpPr>
          <p:spPr>
            <a:xfrm>
              <a:off x="3886200" y="2994120"/>
              <a:ext cx="1371600" cy="1600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6" name=""/>
            <p:cNvGrpSpPr/>
            <p:nvPr/>
          </p:nvGrpSpPr>
          <p:grpSpPr>
            <a:xfrm>
              <a:off x="4359240" y="4305240"/>
              <a:ext cx="136440" cy="136440"/>
              <a:chOff x="4359240" y="4305240"/>
              <a:chExt cx="136440" cy="136440"/>
            </a:xfrm>
          </p:grpSpPr>
          <p:sp>
            <p:nvSpPr>
              <p:cNvPr id="127" name=""/>
              <p:cNvSpPr/>
              <p:nvPr/>
            </p:nvSpPr>
            <p:spPr>
              <a:xfrm>
                <a:off x="4359240" y="4305240"/>
                <a:ext cx="136440" cy="136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371840" y="4308120"/>
                <a:ext cx="95400" cy="104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9" name=""/>
            <p:cNvGrpSpPr/>
            <p:nvPr/>
          </p:nvGrpSpPr>
          <p:grpSpPr>
            <a:xfrm>
              <a:off x="4664160" y="4305240"/>
              <a:ext cx="136440" cy="136440"/>
              <a:chOff x="4664160" y="4305240"/>
              <a:chExt cx="136440" cy="136440"/>
            </a:xfrm>
          </p:grpSpPr>
          <p:sp>
            <p:nvSpPr>
              <p:cNvPr id="130" name=""/>
              <p:cNvSpPr/>
              <p:nvPr/>
            </p:nvSpPr>
            <p:spPr>
              <a:xfrm>
                <a:off x="4664160" y="4305240"/>
                <a:ext cx="136440" cy="136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4676760" y="4308120"/>
                <a:ext cx="95400" cy="104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2" name=""/>
            <p:cNvGrpSpPr/>
            <p:nvPr/>
          </p:nvGrpSpPr>
          <p:grpSpPr>
            <a:xfrm>
              <a:off x="4359240" y="3146400"/>
              <a:ext cx="136440" cy="136440"/>
              <a:chOff x="4359240" y="3146400"/>
              <a:chExt cx="136440" cy="136440"/>
            </a:xfrm>
          </p:grpSpPr>
          <p:sp>
            <p:nvSpPr>
              <p:cNvPr id="133" name=""/>
              <p:cNvSpPr/>
              <p:nvPr/>
            </p:nvSpPr>
            <p:spPr>
              <a:xfrm>
                <a:off x="4359240" y="3146400"/>
                <a:ext cx="136440" cy="136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371840" y="3149280"/>
                <a:ext cx="95400" cy="104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5" name=""/>
            <p:cNvGrpSpPr/>
            <p:nvPr/>
          </p:nvGrpSpPr>
          <p:grpSpPr>
            <a:xfrm>
              <a:off x="4664160" y="3146400"/>
              <a:ext cx="136440" cy="136440"/>
              <a:chOff x="4664160" y="3146400"/>
              <a:chExt cx="136440" cy="136440"/>
            </a:xfrm>
          </p:grpSpPr>
          <p:sp>
            <p:nvSpPr>
              <p:cNvPr id="136" name=""/>
              <p:cNvSpPr/>
              <p:nvPr/>
            </p:nvSpPr>
            <p:spPr>
              <a:xfrm>
                <a:off x="4664160" y="3146400"/>
                <a:ext cx="136440" cy="136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676760" y="3149280"/>
                <a:ext cx="95400" cy="104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8" name=""/>
            <p:cNvSpPr/>
            <p:nvPr/>
          </p:nvSpPr>
          <p:spPr>
            <a:xfrm>
              <a:off x="4141800" y="2362320"/>
              <a:ext cx="839520" cy="618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" y="11407"/>
                  </a:moveTo>
                  <a:arcTo wR="10800" hR="10800" stAng="10606598" swAng="11274320"/>
                  <a:lnTo>
                    <a:pt x="10800" y="10800"/>
                  </a:lnTo>
                  <a:close/>
                </a:path>
                <a:path fill="none" w="21600" h="21600">
                  <a:moveTo>
                    <a:pt x="17" y="11407"/>
                  </a:moveTo>
                  <a:arcTo wR="10800" hR="10800" stAng="10606598" swAng="11274320"/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145040" y="2689200"/>
              <a:ext cx="0" cy="3049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983120" y="2689200"/>
              <a:ext cx="0" cy="3049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175280" y="2414520"/>
              <a:ext cx="761400" cy="619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" y="11407"/>
                  </a:moveTo>
                  <a:arcTo wR="10800" hR="10800" stAng="10606598" swAng="11274320"/>
                  <a:lnTo>
                    <a:pt x="10800" y="10800"/>
                  </a:lnTo>
                  <a:close/>
                </a:path>
                <a:path fill="none" w="21600" h="21600">
                  <a:moveTo>
                    <a:pt x="17" y="11407"/>
                  </a:moveTo>
                  <a:arcTo wR="10800" hR="10800" stAng="10606598" swAng="11274320"/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178160" y="2689200"/>
              <a:ext cx="0" cy="3049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937040" y="2689200"/>
              <a:ext cx="0" cy="3049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566880" y="66600"/>
            <a:ext cx="194148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ey length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 fontScale="98000"/>
          </a:bodyPr>
          <a:p>
            <a:pPr marL="264600" indent="-2646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ciphers consist o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87880" indent="-21168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well known algorithm, and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87880" indent="-21168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ke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a number used to prime the algorith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5296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4600" indent="-2646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 of an easy-to-break ciph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87880" indent="-21168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gorithm: rotate each letter “N”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87880" indent="-21168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ey: a value in the range 1 to 2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5296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4600" indent="-2646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ey length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the number of bits used to represent a k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87880" indent="-21168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example, a key length of 128 implies (at most)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128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ossible val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87880" indent="-21168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value in the range 1 to 26 can be represented in 5 bits (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3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5296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4600" indent="-2646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a tradeoff. Longer key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87880" indent="-21168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ke the cipher more secure with only a little extra overhead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which is goo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87880" indent="-21168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quire more storage space and transmission bandwidth (which is ba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974680" y="66600"/>
            <a:ext cx="312876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ey length (cont’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ountries impose legal restrictions on key leng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erm “export cipher” refers to a cipher used with a short k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ntention is as foll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ong encryption can be used by the milit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do not want to allow strong encryption technologies to be used by foreign militaries (possible enemi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, we allow only weaker encryption to be expor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ort restrictions on encryption make internationa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-commerce more diffic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01240" y="66600"/>
            <a:ext cx="69073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isplaced concern about public ciphe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n’t mathematicians working for the &lt;such-and-such&gt; government keep silent about flaws so they can decode your secret messages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, becau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flaw is likely to be spotted by several people in different count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 keeping silent about flaws just lets somebody else get the cred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-commerce (which i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hu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cannot work without reliable ciph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-commerce is not just buying books from Amaz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is also online bank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stock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business-to-business trans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-commerce is driving advances in cryptography much more than the &lt;such-and-such&gt; government’s attempts at spy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511440" y="66600"/>
            <a:ext cx="21211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su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data is being transmitted, it might become corrup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example, there might be noise on the transmission 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hecksum is a way to detect accidental corruption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 algorith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calculateChecksum(char* data, int size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int result = 0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for (int i = 0; i &lt; size; i++) {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result += (unsigned int)data[i]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}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return result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der transmits data plus the checksum v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eiver calculates checksum value for received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ares this to the transmitted checks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383840" y="66600"/>
            <a:ext cx="63565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ssage Authentication Code (MAC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hecksum is not infallible, but it is a useful ch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hecksum can guard against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ccidental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ru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is too simplistic to guard against deliberate corru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essage authentication cod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MAC) is a kind of checksu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hecksum value is encoded in, say, 20 bytes instead of just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it is encryp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se properties make a MAC unfeasibly difficult to deliberately fak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MAC is one of several ingredients used to ensure secure communic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cipher ensures nobody else can understand a secret mess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MAC ensures nobody can modify a secret mess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42920" y="121932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142920" y="239508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 Summ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699000" y="78840"/>
            <a:ext cx="1676160" cy="7729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chapter has introduced some basic terminolog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yptography, cip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crypt = encipher; decrypt = decip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intext and cipher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ey leng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ssage authentication code (MAC) is an encrypted checks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d to detect tampering of mess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explain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y security through obscurity is a bad id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ll known ciphers tested by mathematicians worldwide are bet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ts of people can rely on the same cipher; but they use different (secret) ke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13120" y="66600"/>
            <a:ext cx="14479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cens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pyright © 2008 Ciaran McHa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mission is hereby granted, free of charge, to any person obtaining a copy of th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ining course and associated documentation files (the “Training Course"), to deal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Training Course without restriction, including without limitation the rights to us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py, modify, merge, publish, distribute, sublicense, and/or sell copies of the Tra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rse, and to permit persons to whom the Training Course is furnished to do so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ject to the following condi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above copyright notice and this permission notice shall be included in all cop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 substantial portions of the Training Cour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TRAINING COURSE IS PROVIDED "AS IS", WITHOUT WARRANTY OF 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IND, EXPRESS OR IMPLIED, INCLUDING BUT NOT LIMITED TO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RRANTIES OF MERCHANTABILITY, FITNESS FOR A PARTICULAR PURP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NONINFRINGEMENT. IN NO EVENT SHALL THE AUTHORS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PYRIGHT HOLDERS BE LIABLE FOR ANY CLAIM, DAMAGES OR 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ABILITY, WHETHER IN AN ACTION OF CONTRACT, TORT OR OTHERWIS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ISING FROM, OUT OF OR IN CONNECTION WITH THE TRAINING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 THE USE OR OTHER DEALINGS IN THE TRAINING COUR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321000" y="66600"/>
            <a:ext cx="24559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yptograph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erm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ryptograph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 two parts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ryp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-graph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wor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ryp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es from the Greek wor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rypto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ans hidden or 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ryp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an underground burial place or a secret meeting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wor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rypti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eans “difficult to understand”, that is, a “hidden meaning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-graph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ffix denotes a process or science for drawing, writing, representing, describing and so 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ography, choreography, geography, photography, typography,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, cryptography is the science of hidden wr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ncrypt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turn a plaintext message into a hidden mess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crypt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turn a hidden message back into a plaintext mess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11760" y="66600"/>
            <a:ext cx="124776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iph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rabic number system had some important innov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ithmetic is much simpler than arithmetic with Roman numb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oncept of zero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if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Arabic) has two meaning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denotes “nothing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denotes an order of magnitude (10, 100, 1000, 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ly, Europeans were confused by the concept of zer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iphe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if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was used to refer to something that was a myst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wor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iphe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olved to mean the deliberate hiding of mea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phe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ryptograph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 almost synony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nciphe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ans to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ncryp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ciphe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ans to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cryp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324240" y="66600"/>
            <a:ext cx="243504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ipher (cont’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phe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an algorithm that enciphers and deciphers 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y ciphers take a secre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ke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at controls the algorit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 of a (very simple to break) ciph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gorithm is: rotate each letter “N”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” is the secre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ke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“N” is 1 then A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, B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, …, Y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Z, Z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“N” is 2 then A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, B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, …, Y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, Z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nowing the cipher is not enough to decode a mess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also need to know the key that was used to encode the mess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478240" y="66600"/>
            <a:ext cx="413856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laintext and ciphertex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erm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laintex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ns a readable mess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message doe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o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ve to be text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might be a graphic file or an audio file inste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rsely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phertex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ns an encrypted mess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2760" y="66600"/>
            <a:ext cx="453240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urity though obscurit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urity through obscur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 your own cipher (probably with a hardcoded ke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body else knows your cipher’s algorithm (so it is obscur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mistakenly think your secrets are saf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law in is that there are always people smarter than yo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marter people are likely to find flaws in your cip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 they can decode all your secret mess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820960" y="66600"/>
            <a:ext cx="344160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ell known ciphe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a better approach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somebody invents a cipher, he publishes the detai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hematicians around the world test the cipher for fla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no flaws can be found then everybody has confidence in the cip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rong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hat is, good) cipher can be broken only by trying every single possible key v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there, say,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7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ossible keys then this approach might take thousands of years of computer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you need to do 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ick a key (at random) to use with the cip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eep the key secr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282760" y="66600"/>
            <a:ext cx="453096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at about Moore’s Law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1965, Gordon Moore (co-founder of Intel) made an observ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vances in technology mean you can put twice as many transistors onto a chip every 18 mo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observation has remained true for over 40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ubling the transistors usually means doubling the computational 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15 years time, computers will be 1000 faster than they are to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cipher that takes 1000 years to crack today will take only one year to crack in 15 years’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no need to panic, becau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st of today’s secret messages will be worthless in 15 years’ tim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so it will not be worthwhile for somebody to crack the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tter ciphers will be developed within 15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4-11-29T12:26:44Z</dcterms:created>
  <dc:creator>Ciaran McHale</dc:creator>
  <dc:description/>
  <dc:language>en-US</dc:language>
  <cp:lastModifiedBy>cjmchale</cp:lastModifiedBy>
  <cp:lastPrinted>2002-08-30T21:11:41Z</cp:lastPrinted>
  <dcterms:modified xsi:type="dcterms:W3CDTF">2008-05-11T22:14:44Z</dcterms:modified>
  <cp:revision>1499</cp:revision>
  <dc:subject/>
  <dc:title>Introduction to Spring</dc:title>
</cp:coreProperties>
</file>