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480" y="6448320"/>
            <a:ext cx="559116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and Asymmetric Cip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33FB806-C50D-4A8B-998C-9F59807807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C716EFC-7E4A-4501-9DCF-E8745B9FDE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metric and Asymmetric Ci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00360" y="66600"/>
            <a:ext cx="5503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ly storing the privat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advertise my public key widely. Howe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my private ke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somebody else could pretend to be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 for storing your privat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it in a file on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nobody else can read the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UNIX file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lock your computer when you leave you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who has access to backup disks of your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encrypt the private key us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ss phr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sword) known only to you as the encryp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5120" y="66600"/>
            <a:ext cx="59356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imitation of a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create a public-private key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just need to run a software utility to create the key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roprietary and open-source utilities, such as Open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ublic key enables you to securely communicate with whoever has the corresponding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on with the private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i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, say, Amaz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be 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rtificate Authority (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08040" y="66600"/>
            <a:ext cx="42750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ving license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 you want a driving license to use as a form of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o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iving license 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LA)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e your identity to the 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use your passport, recent utility bills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LA gives you a (difficult-to-forge) driving licens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inated card containing your photograph, age, height, ey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d end validity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ntains the DLA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iving license works as a form of identification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can verify that details on the driving license matc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trust the DLA (can’t be bribed to give out fake 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rtificate auth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) serves a role similar to a 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71280" y="66600"/>
            <a:ext cx="3544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 you want people to have faith in your public-private key pair, so you can use it as a form of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reate a public-private key pair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tificate signing 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o 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rtificate author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)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e your identity to the 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port, driving license, recent utility bills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gives you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509 certific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articular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words, the C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specif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details (name, website addres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ecksum for the certificate, signed by the CA’s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d end validity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191120"/>
            <a:ext cx="2590920" cy="108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of a certificate is to securely associate your details with your 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4197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2960" y="66600"/>
            <a:ext cx="47322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Authorit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X509 certificate works as a form of identification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oftware use a library to recognize (check) X509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s bundled with copies of public keys for popular C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oftware can verify the signed checksum on the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trust the CA (can’t be bribed to give out fake certific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nline shopping with your web brow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lick 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y N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, your browser visits a web page starting with https:// (the “s” denotes a secure web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b browser downloads the website’s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b browser che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certificate been signed by a CA trusted by the web brow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name of the website contained in the certificate’s deta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hecks are okay then you know the website is not an imp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240" y="66600"/>
            <a:ext cx="4078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details of 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know you can you trust a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just have to trus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like you have to trust the driving licens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 “self signs” its ow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nyone set themselves up as a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it might take a lot of effort to convince web browser companies to bundle your public key in thei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import extra CA certificates into their brows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this is “too much bother” for most us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mon for an organization to have its ow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money: don’t have to pay an external CA for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al CA may not be trusted outside of the organization, but that is not a problem for internally-deploy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are fast, but have some 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ur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a secret key with a remote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a separate secret key for each person you communicat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iphers are slow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secure communication without prior agreement of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possible to electronically “sign” a document to prove it came from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n asymmetric cipher initially to agree on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es over to a symmetric cipher (for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9800" y="66600"/>
            <a:ext cx="2928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509 is a standard for a security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identification, just like a driving license or pas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contain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people can send you messages secu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keep the correspon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rtificate is signed by a certificat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rtificate authority (CA) is a trusted organization that can sign your X509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ell known CAs that are trusted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ganization can have its own CA for internally-deploy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ymmetric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19240" y="66600"/>
            <a:ext cx="3305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mmetric cipher is one in which you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a plaintext message with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a ciphertext message wit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a message twice produces the original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good symmetric cipher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ast, that is, require an acceptable amount of CPU time to encrypt/decr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trong, that is, take thousands of years to c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ful for encrypting files on your compu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are the only person who needs to know the secret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0200" y="66600"/>
            <a:ext cx="56991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s of 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have a significant lim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them unsuitable for communication with people in 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negotiate a secret key with the remote pa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lephone call containing the secret key might be inter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postal mail or email messages that contain a secre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the secret key through a courier means you have to trust the courier. Could he be brib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keep track of multiple secret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cret key for messages to 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fferent secret key for messages to Bob. And so 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a group of N people need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ecret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ymmet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phers addresses this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ymmetric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66600"/>
            <a:ext cx="84708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mmetric ciphers and public key 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ciphers were used for thousands of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1970s, Ralph Merkle developed 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www.merkle.com for his PhD thesis (of historical inter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n, several better asymmetric ciphers have bee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ymmetric cipher uses two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ssage encrypted with key1 can be decrypted only with key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ssage encrypted with key2 can be decrypted only with key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one key does not help you guess the oth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key 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other name for asymmetric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key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vate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1120" y="66600"/>
            <a:ext cx="57610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public key 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my public key on, say, my business card o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curely send me a message, encrypt it with my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 can decrypt the message (with my private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ke some (compiled) software available from m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ke a checksum of the software files and encrypt the checksum with my private key (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wnload the software and the sign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erify that the software comes from me (rather than a hack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lculate a checksum for the software you dow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use my public key to decode my checksum, and compare it to your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hecksums match then you know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ftware is genu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7560" y="66600"/>
            <a:ext cx="8033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symmetric and asymmetr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ous limitation of asymmetric cip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use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times more CPU time than symmetr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use a two-step approach for remot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asymmetric cipher to securely communicate a private key for use with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witch over to using the symmetric cipher with the agreed-upon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 uses a (more elaborate) two-step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handshaking is slow due to use of an a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mmunication gets much faster due to use of a symmetric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39Z</dcterms:modified>
  <cp:revision>1519</cp:revision>
  <dc:subject/>
  <dc:title>Introduction to Spring</dc:title>
</cp:coreProperties>
</file>