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s of Secure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E5781DEF-428E-449F-B32E-ACA3B33B86B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2F9D26A0-B30D-4D97-BC19-DB5361D28CA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of Secure Commun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2362320"/>
            <a:ext cx="1371600" cy="2232000"/>
            <a:chOff x="3886200" y="2362320"/>
            <a:chExt cx="1371600" cy="2232000"/>
          </a:xfrm>
        </p:grpSpPr>
        <p:grpSp>
          <p:nvGrpSpPr>
            <p:cNvPr id="86" name=""/>
            <p:cNvGrpSpPr/>
            <p:nvPr/>
          </p:nvGrpSpPr>
          <p:grpSpPr>
            <a:xfrm>
              <a:off x="4038480" y="3146400"/>
              <a:ext cx="136440" cy="136440"/>
              <a:chOff x="4038480" y="3146400"/>
              <a:chExt cx="136440" cy="13644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5108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038480" y="3390840"/>
              <a:ext cx="136440" cy="136440"/>
              <a:chOff x="4038480" y="3390840"/>
              <a:chExt cx="136440" cy="136440"/>
            </a:xfrm>
          </p:grpSpPr>
          <p:sp>
            <p:nvSpPr>
              <p:cNvPr id="90" name=""/>
              <p:cNvSpPr/>
              <p:nvPr/>
            </p:nvSpPr>
            <p:spPr>
              <a:xfrm>
                <a:off x="403848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108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38480" y="3603600"/>
              <a:ext cx="136440" cy="136440"/>
              <a:chOff x="4038480" y="3603600"/>
              <a:chExt cx="136440" cy="136440"/>
            </a:xfrm>
          </p:grpSpPr>
          <p:sp>
            <p:nvSpPr>
              <p:cNvPr id="93" name=""/>
              <p:cNvSpPr/>
              <p:nvPr/>
            </p:nvSpPr>
            <p:spPr>
              <a:xfrm>
                <a:off x="403848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108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038480" y="3848040"/>
              <a:ext cx="136440" cy="136440"/>
              <a:chOff x="4038480" y="3848040"/>
              <a:chExt cx="136440" cy="136440"/>
            </a:xfrm>
          </p:grpSpPr>
          <p:sp>
            <p:nvSpPr>
              <p:cNvPr id="96" name=""/>
              <p:cNvSpPr/>
              <p:nvPr/>
            </p:nvSpPr>
            <p:spPr>
              <a:xfrm>
                <a:off x="403848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108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038480" y="4076640"/>
              <a:ext cx="136440" cy="136440"/>
              <a:chOff x="4038480" y="4076640"/>
              <a:chExt cx="13644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403848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5108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3146400"/>
              <a:ext cx="136440" cy="136440"/>
              <a:chOff x="4968720" y="3146400"/>
              <a:chExt cx="136440" cy="136440"/>
            </a:xfrm>
          </p:grpSpPr>
          <p:sp>
            <p:nvSpPr>
              <p:cNvPr id="102" name=""/>
              <p:cNvSpPr/>
              <p:nvPr/>
            </p:nvSpPr>
            <p:spPr>
              <a:xfrm>
                <a:off x="496872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8132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968720" y="3390840"/>
              <a:ext cx="136440" cy="136440"/>
              <a:chOff x="4968720" y="3390840"/>
              <a:chExt cx="13644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96872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132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8720" y="3603600"/>
              <a:ext cx="136440" cy="136440"/>
              <a:chOff x="4968720" y="3603600"/>
              <a:chExt cx="136440" cy="13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872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68720" y="3848040"/>
              <a:ext cx="136440" cy="136440"/>
              <a:chOff x="4968720" y="3848040"/>
              <a:chExt cx="136440" cy="13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496872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8132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68720" y="4076640"/>
              <a:ext cx="136440" cy="136440"/>
              <a:chOff x="4968720" y="4076640"/>
              <a:chExt cx="136440" cy="13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96872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19720" y="3338640"/>
              <a:ext cx="304560" cy="838080"/>
              <a:chOff x="4419720" y="3338640"/>
              <a:chExt cx="304560" cy="83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419720" y="333864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356724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192" h="384">
                    <a:moveTo>
                      <a:pt x="48" y="0"/>
                    </a:moveTo>
                    <a:lnTo>
                      <a:pt x="0" y="384"/>
                    </a:lnTo>
                    <a:lnTo>
                      <a:pt x="192" y="384"/>
                    </a:lnTo>
                    <a:lnTo>
                      <a:pt x="1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8720" y="4305240"/>
              <a:ext cx="136440" cy="136440"/>
              <a:chOff x="4968720" y="4305240"/>
              <a:chExt cx="1364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132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38480" y="4305240"/>
              <a:ext cx="136440" cy="136440"/>
              <a:chOff x="4038480" y="4305240"/>
              <a:chExt cx="136440" cy="13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5108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2994120"/>
              <a:ext cx="13716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359240" y="4305240"/>
              <a:ext cx="136440" cy="136440"/>
              <a:chOff x="4359240" y="4305240"/>
              <a:chExt cx="136440" cy="136440"/>
            </a:xfrm>
          </p:grpSpPr>
          <p:sp>
            <p:nvSpPr>
              <p:cNvPr id="127" name=""/>
              <p:cNvSpPr/>
              <p:nvPr/>
            </p:nvSpPr>
            <p:spPr>
              <a:xfrm>
                <a:off x="435924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7184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64160" y="4305240"/>
              <a:ext cx="136440" cy="136440"/>
              <a:chOff x="4664160" y="4305240"/>
              <a:chExt cx="136440" cy="136440"/>
            </a:xfrm>
          </p:grpSpPr>
          <p:sp>
            <p:nvSpPr>
              <p:cNvPr id="130" name=""/>
              <p:cNvSpPr/>
              <p:nvPr/>
            </p:nvSpPr>
            <p:spPr>
              <a:xfrm>
                <a:off x="466416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676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9240" y="3146400"/>
              <a:ext cx="136440" cy="136440"/>
              <a:chOff x="4359240" y="3146400"/>
              <a:chExt cx="136440" cy="13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924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7184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664160" y="3146400"/>
              <a:ext cx="136440" cy="136440"/>
              <a:chOff x="4664160" y="3146400"/>
              <a:chExt cx="136440" cy="136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66416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676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41800" y="2362320"/>
              <a:ext cx="83952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5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12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2414520"/>
              <a:ext cx="761400" cy="61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816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7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09600" y="66600"/>
            <a:ext cx="6747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 of cryptographic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goals of cipher-based communic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provided by using a strong cipher and secre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provided by the use of digital certificates, such as X5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ity (also known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ssage authent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provided by a MAC (message authentication c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repudiation (discussed on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1320" y="66600"/>
            <a:ext cx="7934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 of cryptographic communication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pudi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to deny, disown or reject as untr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-repudi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the ability to prove whether or not somebody sent a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the need for non-repud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thinks the IBM share price will d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tells his stockbroker to sell his IBM sh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on afterwards, IBM shares increase in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vestor pretends he never told his stockbroker to sell his sh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ockbroker uses non-repudiation to prove the investor is 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360600" y="66600"/>
            <a:ext cx="24148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zation is an important goal in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authorization is distinct from cryptograp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d by crypt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authoriz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y upon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5-11T22:14:35Z</dcterms:modified>
  <cp:revision>1503</cp:revision>
  <dc:subject/>
  <dc:title>Introduction to Spring</dc:title>
</cp:coreProperties>
</file>