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L and T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4520655D-9F70-4368-9B7D-84361DF573B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73DFDF8F-9DF1-40EE-997E-4128CCDC4BB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SL and T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3886200" y="2362320"/>
            <a:ext cx="1371600" cy="2232000"/>
            <a:chOff x="3886200" y="2362320"/>
            <a:chExt cx="1371600" cy="2232000"/>
          </a:xfrm>
        </p:grpSpPr>
        <p:grpSp>
          <p:nvGrpSpPr>
            <p:cNvPr id="86" name=""/>
            <p:cNvGrpSpPr/>
            <p:nvPr/>
          </p:nvGrpSpPr>
          <p:grpSpPr>
            <a:xfrm>
              <a:off x="4038480" y="3146400"/>
              <a:ext cx="136440" cy="136440"/>
              <a:chOff x="4038480" y="3146400"/>
              <a:chExt cx="136440" cy="136440"/>
            </a:xfrm>
          </p:grpSpPr>
          <p:sp>
            <p:nvSpPr>
              <p:cNvPr id="87" name=""/>
              <p:cNvSpPr/>
              <p:nvPr/>
            </p:nvSpPr>
            <p:spPr>
              <a:xfrm>
                <a:off x="403848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5108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038480" y="3390840"/>
              <a:ext cx="136440" cy="136440"/>
              <a:chOff x="4038480" y="3390840"/>
              <a:chExt cx="136440" cy="136440"/>
            </a:xfrm>
          </p:grpSpPr>
          <p:sp>
            <p:nvSpPr>
              <p:cNvPr id="90" name=""/>
              <p:cNvSpPr/>
              <p:nvPr/>
            </p:nvSpPr>
            <p:spPr>
              <a:xfrm>
                <a:off x="403848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5108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038480" y="3603600"/>
              <a:ext cx="136440" cy="136440"/>
              <a:chOff x="4038480" y="3603600"/>
              <a:chExt cx="136440" cy="136440"/>
            </a:xfrm>
          </p:grpSpPr>
          <p:sp>
            <p:nvSpPr>
              <p:cNvPr id="93" name=""/>
              <p:cNvSpPr/>
              <p:nvPr/>
            </p:nvSpPr>
            <p:spPr>
              <a:xfrm>
                <a:off x="403848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108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038480" y="3848040"/>
              <a:ext cx="136440" cy="136440"/>
              <a:chOff x="4038480" y="3848040"/>
              <a:chExt cx="136440" cy="136440"/>
            </a:xfrm>
          </p:grpSpPr>
          <p:sp>
            <p:nvSpPr>
              <p:cNvPr id="96" name=""/>
              <p:cNvSpPr/>
              <p:nvPr/>
            </p:nvSpPr>
            <p:spPr>
              <a:xfrm>
                <a:off x="403848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5108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038480" y="4076640"/>
              <a:ext cx="136440" cy="136440"/>
              <a:chOff x="4038480" y="4076640"/>
              <a:chExt cx="13644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403848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05108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968720" y="3146400"/>
              <a:ext cx="136440" cy="136440"/>
              <a:chOff x="4968720" y="3146400"/>
              <a:chExt cx="136440" cy="136440"/>
            </a:xfrm>
          </p:grpSpPr>
          <p:sp>
            <p:nvSpPr>
              <p:cNvPr id="102" name=""/>
              <p:cNvSpPr/>
              <p:nvPr/>
            </p:nvSpPr>
            <p:spPr>
              <a:xfrm>
                <a:off x="496872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8132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968720" y="3390840"/>
              <a:ext cx="136440" cy="136440"/>
              <a:chOff x="4968720" y="3390840"/>
              <a:chExt cx="13644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96872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8132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968720" y="3603600"/>
              <a:ext cx="136440" cy="136440"/>
              <a:chOff x="4968720" y="3603600"/>
              <a:chExt cx="136440" cy="13644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872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8132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968720" y="3848040"/>
              <a:ext cx="136440" cy="136440"/>
              <a:chOff x="4968720" y="3848040"/>
              <a:chExt cx="136440" cy="136440"/>
            </a:xfrm>
          </p:grpSpPr>
          <p:sp>
            <p:nvSpPr>
              <p:cNvPr id="111" name=""/>
              <p:cNvSpPr/>
              <p:nvPr/>
            </p:nvSpPr>
            <p:spPr>
              <a:xfrm>
                <a:off x="496872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8132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968720" y="4076640"/>
              <a:ext cx="136440" cy="136440"/>
              <a:chOff x="4968720" y="4076640"/>
              <a:chExt cx="136440" cy="136440"/>
            </a:xfrm>
          </p:grpSpPr>
          <p:sp>
            <p:nvSpPr>
              <p:cNvPr id="114" name=""/>
              <p:cNvSpPr/>
              <p:nvPr/>
            </p:nvSpPr>
            <p:spPr>
              <a:xfrm>
                <a:off x="496872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132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419720" y="3338640"/>
              <a:ext cx="304560" cy="838080"/>
              <a:chOff x="4419720" y="3338640"/>
              <a:chExt cx="304560" cy="838080"/>
            </a:xfrm>
          </p:grpSpPr>
          <p:sp>
            <p:nvSpPr>
              <p:cNvPr id="117" name=""/>
              <p:cNvSpPr/>
              <p:nvPr/>
            </p:nvSpPr>
            <p:spPr>
              <a:xfrm>
                <a:off x="4419720" y="333864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19720" y="3567240"/>
                <a:ext cx="304560" cy="609480"/>
              </a:xfrm>
              <a:custGeom>
                <a:avLst/>
                <a:gdLst/>
                <a:ahLst/>
                <a:rect l="l" t="t" r="r" b="b"/>
                <a:pathLst>
                  <a:path w="192" h="384">
                    <a:moveTo>
                      <a:pt x="48" y="0"/>
                    </a:moveTo>
                    <a:lnTo>
                      <a:pt x="0" y="384"/>
                    </a:lnTo>
                    <a:lnTo>
                      <a:pt x="192" y="384"/>
                    </a:lnTo>
                    <a:lnTo>
                      <a:pt x="144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968720" y="4305240"/>
              <a:ext cx="136440" cy="136440"/>
              <a:chOff x="4968720" y="4305240"/>
              <a:chExt cx="136440" cy="136440"/>
            </a:xfrm>
          </p:grpSpPr>
          <p:sp>
            <p:nvSpPr>
              <p:cNvPr id="120" name=""/>
              <p:cNvSpPr/>
              <p:nvPr/>
            </p:nvSpPr>
            <p:spPr>
              <a:xfrm>
                <a:off x="496872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8132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038480" y="4305240"/>
              <a:ext cx="136440" cy="136440"/>
              <a:chOff x="4038480" y="4305240"/>
              <a:chExt cx="136440" cy="136440"/>
            </a:xfrm>
          </p:grpSpPr>
          <p:sp>
            <p:nvSpPr>
              <p:cNvPr id="123" name=""/>
              <p:cNvSpPr/>
              <p:nvPr/>
            </p:nvSpPr>
            <p:spPr>
              <a:xfrm>
                <a:off x="403848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5108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886200" y="2994120"/>
              <a:ext cx="137160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359240" y="4305240"/>
              <a:ext cx="136440" cy="136440"/>
              <a:chOff x="4359240" y="4305240"/>
              <a:chExt cx="136440" cy="136440"/>
            </a:xfrm>
          </p:grpSpPr>
          <p:sp>
            <p:nvSpPr>
              <p:cNvPr id="127" name=""/>
              <p:cNvSpPr/>
              <p:nvPr/>
            </p:nvSpPr>
            <p:spPr>
              <a:xfrm>
                <a:off x="435924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7184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664160" y="4305240"/>
              <a:ext cx="136440" cy="136440"/>
              <a:chOff x="4664160" y="4305240"/>
              <a:chExt cx="136440" cy="136440"/>
            </a:xfrm>
          </p:grpSpPr>
          <p:sp>
            <p:nvSpPr>
              <p:cNvPr id="130" name=""/>
              <p:cNvSpPr/>
              <p:nvPr/>
            </p:nvSpPr>
            <p:spPr>
              <a:xfrm>
                <a:off x="466416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7676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359240" y="3146400"/>
              <a:ext cx="136440" cy="136440"/>
              <a:chOff x="4359240" y="3146400"/>
              <a:chExt cx="136440" cy="136440"/>
            </a:xfrm>
          </p:grpSpPr>
          <p:sp>
            <p:nvSpPr>
              <p:cNvPr id="133" name=""/>
              <p:cNvSpPr/>
              <p:nvPr/>
            </p:nvSpPr>
            <p:spPr>
              <a:xfrm>
                <a:off x="435924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7184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664160" y="3146400"/>
              <a:ext cx="136440" cy="136440"/>
              <a:chOff x="4664160" y="3146400"/>
              <a:chExt cx="136440" cy="136440"/>
            </a:xfrm>
          </p:grpSpPr>
          <p:sp>
            <p:nvSpPr>
              <p:cNvPr id="136" name=""/>
              <p:cNvSpPr/>
              <p:nvPr/>
            </p:nvSpPr>
            <p:spPr>
              <a:xfrm>
                <a:off x="466416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7676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41800" y="2362320"/>
              <a:ext cx="83952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45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312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5280" y="2414520"/>
              <a:ext cx="761400" cy="61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816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7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23600" y="66600"/>
            <a:ext cx="41324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re SSL and TL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94, the world wide web was new and imma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browsers and web servers sent only plaintext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afe to use your credit-card to buy something from a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designed SSL to provide encrypted communication for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 stand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ure sockets lay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scape had a patent for SSL, but made SSL 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L matured quickly with the help of the web commun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95, SSL 3.0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96, Netscape handed over responsibility for SSL to the IE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TF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net Engineering Task For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FT is an international standard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TF renamed the next version of SSL to TLS 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think of TLS 1.0 as being SSL 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66600"/>
            <a:ext cx="6058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extra layer in the protocol st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pplication-level protocol normally talks directly to 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L was designed 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uld be used with HTTP (an application-level protoc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uld be used with other application-level protocols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BA is a remote procedure call (RPC)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secure CORBA protocol is called II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cure CORBA protocol is called IIOP/T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62280" y="66600"/>
            <a:ext cx="54352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ified overview of SSL/T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metric ciph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the two parti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ure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 on a secret k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mmetric ciphers have the opposite proper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 times slower than symmetric ci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afely exchange public keys, even if other people overh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simplified explanation of how SSL 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 uses both symmetric and asymmetric ci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n asymmetric cipher to securely communicate a private key for use with a symmetric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switches over to using the symmetric cipher with the agreed-upon privat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6880" y="66600"/>
            <a:ext cx="6622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ified overview of SSL/TLS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, SSL uses six secret keys rather than just 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are for client-generated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ree are for server-generated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se of multiple keys makes life even harder for hac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group of three secret keys consist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ey used by the encryption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ey used by the MAC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ey used to initialize the encryption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120" y="66600"/>
            <a:ext cx="55976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SL/TLS supports many cip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L/TLS uses one of each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mmetric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symmetric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C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re are many competing ciphers in each categ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one should be us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initial SSL/TLS handsha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sends a list of ciphers it understands to the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rver picks one from each category and notifies client of its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/TLS can adapt whenever better ciphers are developed in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/TLS can adapt to legal restrictions on ciphers in s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666960" y="66600"/>
            <a:ext cx="1741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S is the new name for S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S 1.0 = SSL 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L was first used to secure communication via 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an be used to secure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L uses both symmetric and asymmetric cip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n asymmetric cipher to securely communicate a private key for use with a symmetric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switches over to using the symmetric cipher with agreed-upon private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L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coded to use a particular se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and server negotiate on which set of ciphers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 can evolve to support newer, better ciphers when they are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5-15T18:08:24Z</dcterms:modified>
  <cp:revision>1507</cp:revision>
  <dc:subject/>
  <dc:title>Introduction to Spring</dc:title>
</cp:coreProperties>
</file>