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0FE8032-A1F2-4006-838B-7729C1764D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C5C40C2B-D55E-4DF2-99BA-E52A7BD4BD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6160" y="66600"/>
            <a:ext cx="4116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ly used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ames often appear in books and articles about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wo people who want to communicate secu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intercept and decode or modify messages sent between Alice and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old cowboy mov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the hero wore a white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villain wore a black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te 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somebody who fixes security loopholes in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08400" y="66600"/>
            <a:ext cx="4333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and credent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it as being a 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denti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ata that pro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ht be a password (to go with the username) or a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ana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Dr. John Smith” (that is m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my passport (or driving license)” to prove I am who I say I am (m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my license to practice medicine” to prove that I am a doctor (another se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1280" y="66600"/>
            <a:ext cx="3003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, PKI and IET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and private key cip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nam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ymmetric cip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and private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ften abbreviat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 infra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infrastructure required to use public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authority (CA)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used verify a user’s identity so the CA is willing to sign the user’s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T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 Engineering Task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ganization that defines standards for Internet-relate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77800" y="66600"/>
            <a:ext cx="4327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, VeriSign and PK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is a public-key encryp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name is an acronym of the surnames of its inven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n Rivest, Adi Shamir and Leonard Adle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invented in 1977 and is still widely us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SA Secu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company set up to promote and exploit cryptographic technologies (including 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 is now owned by EM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K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cronym for publi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cryptographic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(pseudo-)standards defined by a RSA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fficially standards, because they are defined by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everal have been adopted by formal standards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i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spin-off company from RSA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largest certificate authority fo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66600"/>
            <a:ext cx="8105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well-known ciphers used in SSL and T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, Diffie-Hellman, DSA, SRP, 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2, DES, IDEA (used only in old versions of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4, Triple DES, AES (also called Rijndael), Camel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ptographic hash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2, MD4 (used only in old versions of S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5, SHA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SS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su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symmetric cipher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ymmetric cipher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ryptographic hash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gotiated during the initial SSL handsh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17560" y="66600"/>
            <a:ext cx="38797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other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CS#11 is an API used to obtain cryptographic tokens from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from a smart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CS#12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.p12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file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tore private keys with accompanying public key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is encrypted for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Enhanced MAIL (P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ETF proposed standard for using public key cryptography in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idely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em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extension) is used by Open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SL can convert betwe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em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.p12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25Z</dcterms:modified>
  <cp:revision>1510</cp:revision>
  <dc:subject/>
  <dc:title>Introduction to Spring</dc:title>
</cp:coreProperties>
</file>