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 List (A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B594258-1AB0-4B1C-8703-027E3C2E7B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955233C-BC9C-40E1-96D2-64B534E02A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Control List (AC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30040" y="66600"/>
            <a:ext cx="3287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control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control l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L) is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hor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s what access permissions different users have for a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resources: a file, a printer, operations on an object in a serve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ystems provide ACLs, but the mechanisms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using a pseudo-code syntax for an RPC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Fred can exec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Manager.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Manager.log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.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Mary can exec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833640"/>
            <a:ext cx="3429000" cy="73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terface&gt;.&lt;oper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” matches all operation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32000" y="66600"/>
            <a:ext cx="463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-based access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some systems have thousands of 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ious and error prone to specify ACLs for each user individ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role-based access control (RBA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user to one or more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write ACLs in terms of roles rather than individua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using a pseudo-code syntax for an RPC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Fred belongs to employee, mana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Mary belongs to employ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er Sam  belongs to custom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le employee can execute: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le manager can execute: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26840" y="66600"/>
            <a:ext cx="5823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-based access control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 of role-based access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ay be thousands or even millions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usually only a very small number of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CL maintenance is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22400" y="66600"/>
            <a:ext cx="5283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requisites for autho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requisite for access control lists (or any other authorization mechanism)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int in specifying what user Fred can do if we cannot verify whether or not a us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can a system provide authentication without (the overhead of) secure communications (such as SSL/TL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ly not,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is often done via username and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rnames and passwords are transmitted without encryption then a hacker can easily captur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lists (ACLs) are widely used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tedious to specify an ACL for each of 1000’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map many users to a small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efine ACLs for the 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role-based access control (RB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is a prerequisite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encryption is a prerequisite for authent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people cannot snoop on usernames and passwo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5T18:14:47Z</dcterms:modified>
  <cp:revision>1506</cp:revision>
  <dc:subject/>
  <dc:title>Introduction to Spring</dc:title>
</cp:coreProperties>
</file>