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348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of Data in 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C12DD8B-0B61-4691-9C00-1E5B59CEF82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49FD0D2-5D9A-48DA-83A5-8B0AACB22C0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ganization of Data in LD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7920" y="66600"/>
            <a:ext cx="6567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AP Directory Information Tree (DI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n an LDAF server is organized as a hierarchical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usuall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ee, bu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i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can introduce cyclic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ree is called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DAP Directory Information Tre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rectory information tre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bbreviated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rectory t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ntry in the tree can be uniquely addressed by i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inguished 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ly similar to /path/to/a/unix/file or C:\path\to\a\windows\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ere are differe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parator at each level is a comma (“,”) rather than “/” or “\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a level, there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=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ead of ju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stinguished name is written with the most significant piece first, like in a postal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a distinguished na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=John Smith,ou=staff,dc=example,dc=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5520" y="66600"/>
            <a:ext cx="2832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ribute n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consider that example of a distinguished 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=John Smith,ou=staff,dc=example,dc=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“cn”, “ou” and “dc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nam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milar to Java fields or C++ instance variab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follows “=” is the value of the specified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ttributes have confusingly short names.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 = commo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 = su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 = organizational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c = domain component, that is, a component in a DNS doma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name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“CN”, “cn”, “cN” and “Cn” are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8360" y="66600"/>
            <a:ext cx="6375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ies, objectClasses and attrib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n LDAP server is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ntry (object) can contain man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-name=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Cla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 specifies the entry’s class (that is, its 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bjectClass is defined in an LDAP sch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DAP schema language supports single inheritance for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finition of an objectClass specifies which attributes are optional and which are mand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hema definition of an attribute specifies if it can have one value or multiple val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an attribute that has multiple val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phoneNumber: +1 555 967-14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phoneNumber: +1 555 967-56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ntry can have multiple values for 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30360" y="66600"/>
            <a:ext cx="6037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ve distinguished name (RD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tive distinguished name (RDN) i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-name=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identifies an entry at one level in the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 example, consider the following distinguished 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=John Smith,ou=staff,dc=example,dc=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LDAP schema do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that a particular attribute must be used in the R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you can use whatev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-name=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ou pref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s long as it uniquely identifies one en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eded for uniqueness, you can use a “+” separated lis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-name=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n=John Smith+telephoneNumber= +1 555 967-14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1539720" y="167616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2925720" y="209520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4130640" y="182844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5333760" y="205704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3200400"/>
            <a:ext cx="3200400" cy="34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distinguished 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1752120" y="2666880"/>
            <a:ext cx="12956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124080" y="2666880"/>
            <a:ext cx="763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52680" y="2590560"/>
            <a:ext cx="8384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505320" y="2590560"/>
            <a:ext cx="18288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45000" y="66600"/>
            <a:ext cx="1782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IF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LDAP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store data in whatever format it wants: text files, relational database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able to import and export data in LDIF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IF = LDAP Interchang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 text-file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ypically two ways to enter data into an LDAP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(proprietary or open-source) GUI client that uses the LDAP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n LDIF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dministrators prefer using LDIF files instead of G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89000" y="66600"/>
            <a:ext cx="3305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LDIF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n: uid=jsmith,ou=Marketing,dc=example,dc=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lass: organizational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lass: inetOrg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id: j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n: John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: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rest of entry deleted for bre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lines start with a hash sign (“#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nk lines are used to separate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are specified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-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ed by a colon (“:”) and a space, and the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stinguished name) pseudo-attribute specifies the entry’s location within the directory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81440" y="66600"/>
            <a:ext cx="3325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complete but informative online LDAP manu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zytrax.com/books/ld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DAP System Administr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erald Carter. O’Reilly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s an overview of LD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s how to install and administer OpenLDA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n open-source imple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1T22:16:22Z</dcterms:modified>
  <cp:revision>1513</cp:revision>
  <dc:subject/>
  <dc:title>Introduction to Spring</dc:title>
</cp:coreProperties>
</file>