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F067957-B795-470B-B5A2-9C52B73AAC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5A4F7B6-6B3B-4DCA-88BA-8C413F82D7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924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get a copy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obtain this training course from the author’s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CiaranMcHal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downloa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owerPoint and PDF form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Slides Manual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DF file with 2, 4, 6 or 8 slides per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Notes Manual” to complement 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LaTeX and PDF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a more detailed discussion of the topics in this chapter in Chapter 1 (“Introduction”)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es Man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708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 chang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layed a significant part in ending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is autobiography, Nelson Mandela wr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had ever suggested to me how to go about removing the evils of racial prejudice, and I had to learn by trial and error.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0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want to change the world face the sam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they need to do so are not taught in schools or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 addresses this skills shor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s some skills that can be learn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other skills that require more effort to lear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study those skills outside of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8880" y="66600"/>
            <a:ext cx="32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for people who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least their part of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their country or neighbourhood, or an 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eople self-identify with many different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activist, community leader, concerned citizen, entrepreneur, researcher, politicia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find this course useful even if you do not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for changing the world are inter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skills can increase chances of success in your career and pers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issing from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opic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organize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write a fund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son for such omissions is that the details vary widely from one country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ason is philosoph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learn to do something right, you should make sure you are doing the right thing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focuse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the right thing to do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tai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how to do something righ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4720" y="66600"/>
            <a:ext cx="502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raining course is “fre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released under a “free” copyright lice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 people call an “open source” copyright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“free” and “open source” come from the programm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s means for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ining materials (in electronic form) are available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the freedom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, copy and modify the 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the training course (free-of-charge or for pro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s:  don’t remove the copyright notice;  don’t sue th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440" y="66600"/>
            <a:ext cx="65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try to change the world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reason for this is that they lack many of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or of this course has an ambitious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learn skills needed for changing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s will help to accelerate (mostly beneficial) chang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e cannot achieve this goal by him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incomplete knowledge of skills required to change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there is lots of room for improvemen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a limited amount of time to teach this cours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6880" y="66600"/>
            <a:ext cx="7759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is course free helps to overcome thos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modify the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some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w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the course can grow and improv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teach this course to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-of-charge or for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you (and many others like you) can help millions of people to learn the skills in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76320" y="66600"/>
            <a:ext cx="534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urse is “self-teachabl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e more important aspect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elf-t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the slides yourself and understand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 not need an instructor to teach the course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knowledgeable instru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lassroom discussion of issues raised in the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anecdotes to illustrate points in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“self-teachable” aspect of this course is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 does not have to train instructor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anyone can become an instructor for this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lides to understa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ideally, read some books mentioned in the slides to flesh out you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0T09:43:06Z</dcterms:modified>
  <cp:revision>1148</cp:revision>
  <dc:subject/>
  <dc:title>Introduction</dc:title>
</cp:coreProperties>
</file>