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orts of People Change the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839A7306-9515-4424-8ADF-B68406619A4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283E967F-2ECC-41C9-A658-9856E14DD34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ll Sorts of People Change the Wor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54440" y="66600"/>
            <a:ext cx="1563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1996, Jason Summey was a 13-year old student in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school had the highest dropout rate in the ar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who dropped out had a high chance of being poor or cri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gave a speech at his middle school grad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hallenged his classmates to be the first year in the school’s history to all graduate from high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tarted a “Be Cool… Stay In School”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ropout rate dropped drama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talked a student out of committing suic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appeared on TV shows and in newspa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book (“Be Cool… Stay In School”) has a forward by President George Bu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who change the world have varied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ch or poor, male or female, highly educated or unedu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lacked self-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had dis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were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were cri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belonged to a minority religion, skin colour or sex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does not matter what your background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sible for you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nformation in this training course can help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6520" y="66600"/>
            <a:ext cx="6251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l sorts of people change the wor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think they cannot change the world because th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not rich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not educated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a criminal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long to a minority religion, skin colour or sex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fe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ck self-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a di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hort chapter shows that people who have changed the world come from all sorts of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24120" y="66600"/>
            <a:ext cx="1841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 at one extre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ward de Bono has 5 university deg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tin Luther King Jr. had a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dhi had a university degree in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chard Stallman was a child prodi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 at the other extre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mie Oliver is dyslexic and was in the “special needs” class at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b Geldof fail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exams in his final year at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lcolm X dropped out of high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92680" y="66600"/>
            <a:ext cx="1287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al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from rich backgr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rence Nighting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tesse de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r was the daughter of a poli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from middleclass backgr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Luther King J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from poor backgr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colm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b Geldof came from a working-class background. He had a succession of menial jobs and lived in squ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12560" y="66600"/>
            <a:ext cx="287028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riminal ac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colm X committed many cri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g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ling drugs (he was also addicted to dru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stitution (he safely escorted white customers into a black ghetto to visit black prostitu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everal years, Bob Geldof was an illegal immigrant in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teenager, Bruce Lee founded his own street gang and often got into trouble with the police for f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36520" y="66600"/>
            <a:ext cx="1405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 of famous women who changed the worl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ita Roddick (founder of The Body Sh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ria Steinem (and many other femini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orence Nightingale (significant contributions to healthc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tesse de 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r (put feminism and educational values into children’s sto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6320" y="66600"/>
            <a:ext cx="4081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k of self-confi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had a fear of public spea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fear caused him to be unable to defend his clients in cou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overcame this fear only when he emigrated to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ard Stallman was a social misf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as academically brilliant but had very poor social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63560" y="66600"/>
            <a:ext cx="4035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eople with dis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with disabilities have changed the worl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nston Churchill suffered from de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ie Oliver is dyslex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ard Stallman says he might have aut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yril Arthur Pearson was bli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et up a hostel to teach soldiers blinded in the First World War how to cope with living blind, and skills for new care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1:51:05Z</dcterms:modified>
  <cp:revision>1124</cp:revision>
  <dc:subject/>
  <dc:title>All Sorts of People Change the World</dc:title>
</cp:coreProperties>
</file>