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, Vocation and Disillusi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D3AE892-A218-45ED-98AD-29D7B93E55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ABD7D39-1B84-4EE1-930E-E0B3D5B15F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otivation, Voc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Disillusi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he heard a sermon about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essage was so profound and electrifying that I left the meeting and bought a half-dozen books on Gandhi’s life and wor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ding about Gandhi, he “discovered the method for social reform that I had been see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4 concerns his post-graduate study for a Ph.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ntinued studying philosophies, including Personalism and 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ontinued study helped him to refine his tactics for achieving 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time he finished his Ph.D., he had “an intellectual understanding” of non-violent resistance, but “no firm determination to organize it in a socially effective situ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another 18 months before he found an opportunity to start using the tactic of non-violent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7960" y="66600"/>
            <a:ext cx="15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ook Martin Luther King Jr. more than 10 years to find and start using a tactic to achieve his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actively search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tactic during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had waited passively for inspiration to strike him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y not have found any tactic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ould have used a different tactic, such as armed revol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ich is unlikely to have been as success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passively for inspiration is rarely produ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iration does not appear 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need input to fee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get that input from work (or study) plu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Becoming disillusioned with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812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insults and having to leave a j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rt of being insulted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stranger or slight acquai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friend or family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how much it hurts to have to leave a job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“just” a job (and you can get another easily)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a “dream” job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onsidered the job to be your vocation then it can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o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31480" y="66600"/>
            <a:ext cx="684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dysfunctional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consider their career to be a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doctors, nurses, teachers, law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cational careers are not guaranteed to be free from dysfunctional working enviro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ysfunctional working environment can be agony for people who consider their careers to b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hange career to escape dysfunction, thus ending thei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tay in the same job, but their vocational zeal gets burn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problem can happen to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 organizations have dysfunctional work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a not-for-profit organization can be just as much agony as becoming disillusioned with a (paying)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some things you encounter rarely, if 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most people buy a house only once or twice in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difficult to cope with rare events because you lack experi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most people you know also lack relevant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your vocation is one of these rarely encounter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you are the only person to ever face th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is is a rarely encountered problem, most people you know may not have experienced it, but that doesn’t mean it i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feel you are being “too sensitive” for feeling so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yo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oc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of course you feel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don’t understand how upset you are probably don’t have a vocation of thei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it may take a long time to put your life back on tr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many months, possibly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feel bi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emotions will sap you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thinking “the other people are to blame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“we were not compatible so it is best to go separate way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ways you can adapt your vocation so you can continue it by your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by yourself means you can avoid dys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acher ends up thinking that state education is dys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could switch to a non-teaching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teacher could find an alternative way to continue teac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offering private tu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utobiography discusses an activist’s disillusi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 was a minister in the Nation of Islam; this was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exposure made him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, combined with excellent communication skills helped him to grow the religious organization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inisters in the religion became envious of his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discovered corruption at the top level of the organizatio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ok his faith in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 of Islam found an excuse to expel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 inspirational book (or this training course) may motivate you for a few w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motivation will wear off unless you have a purpose o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: reread this training course when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your vocation can take a long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it passively for inspiration to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proactively work or study until you find you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come disillusioned with your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due to a dysfunctional 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sillusionment can be ag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with a rare event (such as vocation disillusionment) is diffic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robably lack relevant experience to cop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’s lack of experience makes it difficult for them to understand why you are so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Motivation without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6600"/>
            <a:ext cx="743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tivation without purpose has limited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books and speakers are inspi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ve you feeling motivated to do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the motivation usually wears off after a few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probably because you don’t have a “vocation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mething deeply meaningful to you that you want to work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combin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can produce grea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usually fad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raining course may provide you with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n’t yet found your vocation then reread this training course when 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Finding your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789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y people have not found a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“I don’t know what I want to do with my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have a vague goal, but they don’t know how they should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work in computer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programmer, tester, manager, technical support, sales, market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end social injus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Become a lawyer? Join Amnesty International? Organize protest marches? Fundraising? Lobby politicians? Plot a revolution to overthrow a dictator?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3560" y="66600"/>
            <a:ext cx="449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find your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passively wait for inspiration to strik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trategy is rarely prod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etter approach is to work at (or study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ably something that seems at least partially righ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analysing your area of work to determine its mismatch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refine your ideas about what your vocation sh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126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taken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2 concerns his time in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lways had a deep urge to serve humanity, but I didn’t start out with an interest to enter the ministry. I thought I could probably do it better as a lawyer or doct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he had a broad goal (“serve humanity”) but did not know how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irst inspiration for how to achieve that goal came from reading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Civil Disobedie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merican philosopher Henry David Tho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do deeply moved that I reread the work several ti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3 concerns his time studying in a semin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began “a serious intellectual quest for a method to eliminate social ev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many philosophies, theologies and political ideali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o, Aristotle, Rousseau, Hobbes, Bentham, Mill, Locke, Walter Rauschenbusch, Karl Marx, Lenin, Nietzsche, Reinhold Niebu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found flaws with most of them, but also some good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he had not found a tactic for achieving his goal that was compatible with his eth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period […] I thought the only way we could solve our problem of segregation was an armed revol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04:16Z</dcterms:modified>
  <cp:revision>1161</cp:revision>
  <dc:subject/>
  <dc:title>Talent Scouts and Funding Bodies</dc:title>
</cp:coreProperties>
</file>