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Slack</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4EB29D2E-0541-48A8-9104-E5231ED3528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6CAF48A4-93BB-4FBA-8331-68F46CEF77B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Slack</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760" y="66600"/>
            <a:ext cx="336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ct on the analysi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s 11</a:t>
            </a:r>
            <a:r>
              <a:rPr b="0" lang="en-GB" sz="2000" spc="-1" strike="noStrike">
                <a:solidFill>
                  <a:srgbClr val="000000"/>
                </a:solidFill>
                <a:latin typeface="Arial"/>
                <a:ea typeface="Arial"/>
              </a:rPr>
              <a:t>–</a:t>
            </a:r>
            <a:r>
              <a:rPr b="0" lang="en-GB" sz="2000" spc="-1" strike="noStrike">
                <a:solidFill>
                  <a:srgbClr val="000000"/>
                </a:solidFill>
                <a:latin typeface="Arial"/>
              </a:rPr>
              <a:t>13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llary Rettig explained how recording time usage helped h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kept track of her time in 15-minute increments and discover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was spending a lot of working time on personal calls, web surfing, video games, coffee breaks and so o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did just 25 hours of productive work in a 70-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resolved to do “a little bette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35 hours of productive work in a 60-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40 hours of productive work in a 55-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she did 40 hours of productive work in a 45-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sult: she has a more productive work week and more relaxatio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49120" y="66600"/>
            <a:ext cx="31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ve more frugal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common attitude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Work more to earn more money to buy more thing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Buy with credit rather than buying only when you have the mon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ch attitudes reduce slack in your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more reduces time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ying on credit creates a financial obligation, which reduces freedo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can live more frugally t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n’t need so much money, s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can reduce overtime work, or perhaps even work only part-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books provide tips on living chea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a local bookstore or in an Internet bookstore such as Amazon</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03640" y="66600"/>
            <a:ext cx="2674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evant quot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quote sums up the lack of slack in the lives of many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rmal is getting dressed in clothes that you buy for work, driving through traffic in a car that you are still paying for </a:t>
            </a:r>
            <a:r>
              <a:rPr b="0" lang="en-US" sz="2000" spc="-1" strike="noStrike">
                <a:solidFill>
                  <a:srgbClr val="000000"/>
                </a:solidFill>
                <a:latin typeface="Arial"/>
                <a:ea typeface="Arial"/>
              </a:rPr>
              <a:t>—</a:t>
            </a:r>
            <a:r>
              <a:rPr b="0" lang="en-US" sz="2000" spc="-1" strike="noStrike">
                <a:solidFill>
                  <a:srgbClr val="000000"/>
                </a:solidFill>
                <a:latin typeface="Arial"/>
              </a:rPr>
              <a:t> in order to get to the job that you need so you can pay for the clothes, car, and the house that you leave empty all day in order to afford to live in it.</a:t>
            </a:r>
            <a:br>
              <a:rPr sz="2000"/>
            </a:br>
            <a:r>
              <a:rPr b="0" lang="en-US" sz="2000" spc="-1" strike="noStrike">
                <a:solidFill>
                  <a:srgbClr val="000000"/>
                </a:solidFill>
                <a:latin typeface="Arial"/>
                <a:ea typeface="Arial"/>
              </a:rPr>
              <a:t>— Ellen Goodman, American journalist and 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ummary</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finitions of </a:t>
            </a:r>
            <a:r>
              <a:rPr b="0" i="1" lang="en-GB" sz="2400" spc="-1" strike="noStrike">
                <a:solidFill>
                  <a:srgbClr val="000000"/>
                </a:solidFill>
                <a:latin typeface="Arial"/>
              </a:rPr>
              <a:t>slack:</a:t>
            </a:r>
            <a:r>
              <a:rPr b="0" lang="en-GB" sz="2400" spc="-1" strike="noStrike">
                <a:solidFill>
                  <a:srgbClr val="000000"/>
                </a:solidFill>
                <a:latin typeface="Arial"/>
              </a:rPr>
              <a:t> </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ctionary: </a:t>
            </a:r>
            <a:r>
              <a:rPr b="0" i="1" lang="en-GB" sz="2000" spc="-1" strike="noStrike">
                <a:solidFill>
                  <a:srgbClr val="000000"/>
                </a:solidFill>
                <a:latin typeface="Arial"/>
              </a:rPr>
              <a:t>not tight</a:t>
            </a:r>
            <a:r>
              <a:rPr b="0" lang="en-GB" sz="2000" spc="-1" strike="noStrike">
                <a:solidFill>
                  <a:srgbClr val="000000"/>
                </a:solidFill>
                <a:latin typeface="Arial"/>
              </a:rPr>
              <a:t> or </a:t>
            </a:r>
            <a:r>
              <a:rPr b="0" i="1" lang="en-GB" sz="2000" spc="-1" strike="noStrike">
                <a:solidFill>
                  <a:srgbClr val="000000"/>
                </a:solidFill>
                <a:latin typeface="Arial"/>
              </a:rPr>
              <a:t>not busy</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om DeMarco: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need slack in your life if you want to change the worl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up to you to find ways to create slack in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54040" y="66600"/>
            <a:ext cx="259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What is slack?</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ictionary definition of slack: </a:t>
            </a:r>
            <a:r>
              <a:rPr b="0" i="1" lang="en-GB" sz="2400" spc="-1" strike="noStrike">
                <a:solidFill>
                  <a:srgbClr val="000000"/>
                </a:solidFill>
                <a:latin typeface="Arial"/>
              </a:rPr>
              <a:t>not tight; not busy</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om DeMarco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anagement consultant in the software indust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uthor of several well-known books, including </a:t>
            </a:r>
            <a:r>
              <a:rPr b="0" i="1" lang="en-GB" sz="2000" spc="-1" strike="noStrike">
                <a:solidFill>
                  <a:srgbClr val="000000"/>
                </a:solidFill>
                <a:latin typeface="Arial"/>
              </a:rPr>
              <a:t>Slack</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his book </a:t>
            </a:r>
            <a:r>
              <a:rPr b="0" i="1" lang="en-GB" sz="2400" spc="-1" strike="noStrike">
                <a:solidFill>
                  <a:srgbClr val="000000"/>
                </a:solidFill>
                <a:latin typeface="Arial"/>
              </a:rPr>
              <a:t>Slack, </a:t>
            </a:r>
            <a:r>
              <a:rPr b="0" lang="en-GB" sz="2400" spc="-1" strike="noStrike">
                <a:solidFill>
                  <a:srgbClr val="000000"/>
                </a:solidFill>
                <a:latin typeface="Arial"/>
              </a:rPr>
              <a:t>Tom DeMarc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efines slack as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es several issues that hinder chang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lack is important to anyone who wants to change the wor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hapter discusses some issues that hinder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suggests ways to comba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82560" y="66600"/>
            <a:ext cx="5935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 of why slack is importan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scenar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rk 80 hours a week at minimum-wage to earn enough to l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k is physically tiring and stressfu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would like to make a change. Ei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ampaign to improve working conditions and pay,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 a better job (fewer hours, more money, less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owev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long hours means you have very little time to campaign or search for a new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you do have some time, stress and exhaustion means you don’t have the e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 a lack of slack makes it difficult to effect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pplies to changing your own life or changing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56920" y="66600"/>
            <a:ext cx="621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ppressive systems eliminate slack</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of how an oppressive system removes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dom (through slavery, threat of imprisonment or threat of evic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money (very low wages or slav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 time due to hard work and long hou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ucing morale due to continual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62320" y="66600"/>
            <a:ext cx="2556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reating slack</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want to make changes then you need to create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no universal best way to do th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 rest of this chapter suggests some possibilitie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Ways to create slack in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87280" y="66600"/>
            <a:ext cx="49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alyse how you waste time</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0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For one week, record how you spend your ti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echniqu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rite a list of tasks on a page, one task per line</a:t>
            </a:r>
            <a:br>
              <a:rPr sz="2000"/>
            </a:br>
            <a:r>
              <a:rPr b="0" lang="en-GB" sz="2000" spc="-1" strike="noStrike">
                <a:solidFill>
                  <a:srgbClr val="000000"/>
                </a:solidFill>
                <a:latin typeface="Arial"/>
              </a:rPr>
              <a:t>(everything from work-related tasks to entertainment and chor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t a timer to go off every 15 minutes</a:t>
            </a:r>
            <a:br>
              <a:rPr sz="2000"/>
            </a:br>
            <a:r>
              <a:rPr b="0" lang="en-GB" sz="2000" spc="-1" strike="noStrike">
                <a:solidFill>
                  <a:srgbClr val="000000"/>
                </a:solidFill>
                <a:latin typeface="Arial"/>
              </a:rPr>
              <a:t>(easy to remember what you were doing in such a short time perio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en the timer goes off, put a tick beside the task you were doing during the previous 15 minu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fterwards, analyse the ticks to find unexpected wastes of tim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discover 20+ hours of wasted time pe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ring out the window, aimlessly surfing the Internet, …</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on unimportant tas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liminating such wasted time can create a lot of sl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8-12T21:12:32Z</dcterms:modified>
  <cp:revision>1182</cp:revision>
  <dc:subject/>
  <dc:title>Slack</dc:title>
</cp:coreProperties>
</file>