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op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0EAF2EB-4ED6-4261-BF89-42795144DF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07DD4CF-6FE4-4EA9-AF94-2960AA2B250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Utopi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People do things for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wn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sons, not y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23880" y="66600"/>
            <a:ext cx="4273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 cool… Stay in sch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ap from an earlier chapt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996, Jason Summey was a 13-year old student in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school had the highest dropout rate in the ar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ho dropped out had a high chance of being poor or cri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gave a speech at his middle school grad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hallenged his classmates to be the first year in the school’s history to all graduate from high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tarted a “Be Cool… Stay In School”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66600"/>
            <a:ext cx="5460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 cool… Stay in school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al tactics encouraged students to stay in scho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students joined a “dropout patrol” to mentor struggling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pressure made it less socially acceptable to drop out of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local businesses offered benefits to students who enrolled in the “dropout patrol”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ounts on food, clothes, books, music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-interest bank loans to 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stud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not care about Jason’s altruistic ambitions for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joined the “dropout patrol” anyway to get the offered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son learned an important les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do things f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wn reasons, not y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520" y="66600"/>
            <a:ext cx="8524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ople do things for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wn reasons, not yo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y has a utopian vision. How can she convince others to support 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 people into differen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benefits of her utopian vision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cate those benefits to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. Mary’s utopian vision is to end anti-X discrimi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obvious groups: X and 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nefits of her vision for X people are obvious and easy to commun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nefits for non-X people a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vious. Mary needs to focus on this if she wants to get widesprea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36600" y="66600"/>
            <a:ext cx="3009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 Stallman started the “free software”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3 categories of people relevant to his v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bbyis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ftware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utopian vision h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vious benefits for end users and hobbyis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vious drawbacks (and not-so-obvious benefits) for software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a result, a splinter group form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renamed “free” software as “open-source” software because they felt it was easier to market an open-source vision to software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ost of your supporters will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subset of your utopian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38160" y="66600"/>
            <a:ext cx="1879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do thing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 reasons, not y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uggests that some of your supporters will sh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your utopian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y a sub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your utopian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your vision, but appreciate some of its anticipated side-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, the partial sharing of the vision may cause fri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pporters may accuse you of being “too extreme” or of being bad for the image of the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ho you used to trust for their support no longer seem trustwor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68640" y="66600"/>
            <a:ext cx="4768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friction often lead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ings of betray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ments dividing into factions that fight each other instead of working together whenever goals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cause of the friction can help reduce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iction probably isn’t betrayal; just an incompletely shared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factions can be “friendly neighbours” instead of a “fighting family”, and cooperate whenever goals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 failed utopia can be partially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3080" y="66600"/>
            <a:ext cx="7205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ailed utopia can be partially successfu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tated earlier, utopias suffer from a scalability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sp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calability problem, if many peo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ial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 into a utopian vision then it can cause widespread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a “failed” utopia can be partially successful in a way that brings impressiv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Gandhi wanted to use Satyagraha tactics to 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ish rule of India (he succee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ons between Muslims and Hindus (he fai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sm in Indian society (he fai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he “Be Cool… Stay in School”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to drop out of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act, one student dropped out during the firs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previously there were 10 or 20 dropout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58960" y="66600"/>
            <a:ext cx="3780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utopias are flaw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alability limit means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opias are flaw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find this hard to admit for your own utopian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you can still argue that your utopian vision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ss flaw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 other visions (or the status qu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cy is the worst form of government except for all those other forms that have been tried from time to tim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ston Church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urther reading and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62320" y="66600"/>
            <a:ext cx="2556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 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Faber Book of Utopi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ohn Car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roduction discusses characteristics common to many utopias and dystop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ach chapter summarizes a particular utopia or dyst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s are ordered from ancient history to modern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unlikely to be interested in all of the book’s 101 utopias and dystop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introduction contains a very interesting discussion of utopian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alability limit applies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top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do things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 reasons, not y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your supporters will share only a subset of your utopian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ill probably result in factions appearing within your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, a “failed” utopia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i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tial success can be very impr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ly, the ter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topi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 pla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adays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top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ually mean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ood pla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like heav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lated term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ystop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ad pla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like h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course, one person’s utopia might be another person’s dyst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topi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sometimes used in a dismiss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mplication is that a utopian vision is unrealistic or imprac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dystopias are explored through science fiction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rave New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utopias can be found in ideologie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 socialism, commu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080" y="66600"/>
            <a:ext cx="3384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want to change the world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have a utopian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some people may dismiss your ideas as being hopelessly utop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attempts to implement utopias f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failed may help you avoid similar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is the purpose of this ch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The scalability limit of utop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53720" y="66600"/>
            <a:ext cx="5203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scalability limit of utop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assume Fred believes an ideal life invol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d physical labour (such as farm work) during th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evening, play chess and have group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Fred make this utopian ideal a re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ly, y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an probably find 10 or 20 people who share his utopian i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mplement a small utopian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d will probably assume his utopia can work on a larger sca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uch as an entire coun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it will not because most of the population do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his utopian i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6560" y="66600"/>
            <a:ext cx="6391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scalability limit of utopia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sm failed because communism i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a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topi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oo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topian vision could be made to wor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common belief is wr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topia will fail if you implement it in a large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most of the population will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your utopian i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ilure will occu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gardl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ow good or bad the utopia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an be discouraging if you have a utopian vision that you wish to share with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5840" y="66600"/>
            <a:ext cx="7831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tions for implementing your utopian v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have two options for implementing your utopian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your utopia within a small community of like-minde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tempted to expand the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on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de to share your utopia with the general population but realize this will probably fail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 how other utopias failed when exported to a larger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ill help you to understand the frustrations you will en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t of this chapter explores op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2760" y="66600"/>
            <a:ext cx="5622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ssons from attempted utop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ant lessons from attempted utop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do things f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wn reasons, not y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your supporters will share only a subset of your utopian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, a “failed” utopia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artial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xt few sections examine these 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6:18Z</dcterms:modified>
  <cp:revision>1158</cp:revision>
  <dc:subject/>
  <dc:title>Utopias</dc:title>
</cp:coreProperties>
</file>