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tions for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6210240-C5E4-449A-94C5-CBC5A164817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AE23FAB-EB37-44C2-9B85-3CBCB6D0E8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quations for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39840" y="66600"/>
            <a:ext cx="1190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way to view equations is as a guideline for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writes a paper on a subject about which he is knowledg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he writes a few more papers on related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lizes: pape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pape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pape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a few more papers = boo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ach paper can be reused as a chapter in the bo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writing the book, he realizes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+ complementary slides = training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he realizes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course + “I’m an author” credentials = lots of paying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se steps, Fred can start a new career for him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8600" y="66600"/>
            <a:ext cx="5600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ek out opportunities for re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 look for ways to achieve re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I reuse previous projects in this new projec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I be able to reuse this current project in future projects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a project in a way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to be reused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acher’s writings on a chalk board cannot 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acher’s writings in a word processor document or PowerPoint slid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the project can be reused by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acher can reuse his ow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adly-writt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cture notes nex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ell-writt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cture notes could be reused in a variety of 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students, or by other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in the form of a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orporated into another, overlapping training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93880" y="66600"/>
            <a:ext cx="37022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amie Oliver’s care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ie Oliver is a well-known TV chef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ook at his career shows how he reused existing skills in new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had a popular TV cooking programme for 3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 TV station dropped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e are ways he reused his existing skills to earn a liv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ade a cookery DVD and sold it to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ent on tour, giving a live 2-hour cooking show in thea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corded the live cookery show and released it on D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think of those as equations (“???” denotes new skills he had to acquir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king skills + TV presenter skills + ??? = cookery D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king skills + TV presenter skills + ??? = tour of live cookery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ur of live cookery show + DVD-making skills = DVD of the 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93760" y="66600"/>
            <a:ext cx="48895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mie Oliver’s career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ie learned that English school dinners were junk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causing widespread health and behaviour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how he tackled this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orked with one school’s catering staff to analyse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invented nutritious recipes within the limited catering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rained the catering staff to cook his rec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onvinced politicians to roll out his plan nation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ourse, he recorded this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shown as a six-part TV show and then released on DV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mie’s School Dinn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idespread viewing of the show helped apply pressure to politicians and schools to roll out his healthier school di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ps he took can be viewed as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phr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l you have is a hammer, everything looks like a nai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skill “x” then you might be tempted to think you can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u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x” to solv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re are probably other (missing) parts of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to think in terms of equations is benefic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you to develop a “to do” li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problems to be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kills to be ac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you to convince others to work with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you to plan your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you to proactively seek opportunities for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Using equations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3160" y="66600"/>
            <a:ext cx="6272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s faced by Brazilian farm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anecdote is taken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3 (“The Light in My Head Went On”) of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w to Change the Worl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David Bor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farmers in Brazil in the 1980s faced two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dams and irrigation channels were owned by large land ow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charged small farmers a lot of money for access to wat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ree times the world ave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ric companies supplied power cost-effectively to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y charged $7000 to connect a rural far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 year’s income for a small far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problems created a poverty trap for small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20880" y="66600"/>
            <a:ext cx="1841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 Rosa thought of a way to tackle the first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knew there was water under the farm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s could be dug to access the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ater could be pumped from the wells and used for irr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rmers could then afford to us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ater seed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which is a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-intensive but effective way to grow c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water pumps a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lectri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m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he needed a way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eap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ct farms to the electricity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eventually found such a way that cost only $400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ead the cited chapter for detai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expressed his ideas as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xpensive electricity + wells + pumps = cheap irr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ap irrigation + water seedling = more efficient land use and more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1200" y="66600"/>
            <a:ext cx="3386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son to be lear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you want to solve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ight discover “X will solve thi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quation is: x = solution to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is a problem with a simple solution.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roblems are more compl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y require a more complex set of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+ b + c =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+ y + z = solution to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on’t solve a complex problem if you focus only on “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n be frustrating if you have great x-related skills but lesser skills related to other parts of the equation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90520" y="66600"/>
            <a:ext cx="128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: x = solution to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determine if there are other components in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an equation helps you to develop a “to do”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elps you identify the sub-problems you have to 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also helps you identify skills you may need to develo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r find other people who have those ski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ing your equation to others can hel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ight spot flaws in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y agree your equation solves a worthwhile problem then they might get excited enough to help you solve some of the sub-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Using equations in your car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0560" y="66600"/>
            <a:ext cx="467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planned career cha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might use the following tactic in his care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, he works doing job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he does not achieve success with X, he switches to (unrelated)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when Y fails, he switches to (unrelated)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approach has two drawba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as a slim chance of making Fred 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Fred finally finds success with Z then he may regret the time he wasted on X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better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of a long term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an equation that leads to that goal: x + y + z = long term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ose jobs that move you towards that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10:29Z</dcterms:modified>
  <cp:revision>1130</cp:revision>
  <dc:subject/>
  <dc:title>Equations for Change</dc:title>
</cp:coreProperties>
</file>