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cellaneous Princ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4D288E4-8C81-4750-88CB-ACDA270B16A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ED2ADA6-9ED7-4975-8F28-8FB169BE4A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iscellaneous Princi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5240" y="66600"/>
            <a:ext cx="7562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ltiple theories can explain the same fa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eory may explain the facts, but the theory can still be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Why does the sun rise in the East and set in the W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ld theory: the sun revolves around the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modern theory: the earth spins as it revolves around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8000" y="66600"/>
            <a:ext cx="5283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puzzle for oppressed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 people in the 1950s’ USA frequently wonder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people oppressed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s fro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John Howard Grif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vember 14: “The Negro cannot understand ho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[…] the whites as a group can still contrive to arrange life so that it destroys the Negro’s sense of personal value, degrades his human dignity, deadens the fibres of his be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y do [white people] do it? Why do they keep us like this? What are they gaining? What evil has taken them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19: “None of [the oppression] really makes any sens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: “What sense could a man make of it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ugust 17: “Why do the whites hate us—we don’t hate them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 was dismayed to see the extent to which this youth exaggerated—how could he do otherwise?—the feelings of the whites towards Negroes. He thought they all hated hi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1600" y="66600"/>
            <a:ext cx="3463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eting the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Americans hate and oppress black Americ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 people knew of one theory (offered by white racis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are intrinsically inferior to white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course, black people rejected that theory because they did not consider themselves to be intrinsically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tion of Islam (NOI) is a religious group that combines concepts from mainstream Islam with unorthodox addi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onsidered heretical by mainstream Isl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tion of Islam (NOI) offered an alternative theory to explain racis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9680" y="66600"/>
            <a:ext cx="7597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Nation of Islam’s explanation for rac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OI story of cre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iginally, all humans were black and were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cientist with a grudge against God used selective breeding principles to progressively lighten the skin colour of his fol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the course of 800 years, his successors created whit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each generation became lighter skinned, they became more e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hite people were fully evil, devils, and knew themselves to be dev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bove is from Chapter 10 (“Satan”) of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lcolm 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white person can easily dismiss the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m white and I do not ‘know myself’ to be a devil; therefore the theory is wro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92400" y="66600"/>
            <a:ext cx="4713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theory fits the fact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Malcolm X first heard the NOI’s story of creation, he did not believ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then he thought back on his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cal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te people who had caused harm to him and his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uld not recall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ngl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te person who had been good to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heory seemed to fit the facts of his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as no competing theory that fits the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he started to believe the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joined the NOI and became a min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colm X was not alone in believing the the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his excellent communication skills, he helped to convert tens of thousands of black people to the N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9560" y="66600"/>
            <a:ext cx="7701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 there a better theory that explains racis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ater part of this training course entitl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Bell Curve of Intoleranc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ers an alternative theory to explain o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theories suggest different tactics to combat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I’s theory suggests ei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olent war between black people and white people.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nationalism: black people (somehow) obtain their own country and rule i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ll Curve of Intolera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ggests using Gandhi’s Satyagraha tactics to stop the oppression and thus facilitate an integrated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believe in one theory then the tactics of another theory can seem dangerously misgu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03600" y="66600"/>
            <a:ext cx="3681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and 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because a theory explains the facts does not mean the theory is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might be other theories that also explain the f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some of those other theories have not yet been dis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perhaps you have not read widely enough to have encountered those other the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believe a theory if it seems to make sense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keep an open mind. Perhaps you will encounter a better theory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some miscellaneous principles that are useful to know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You are a product of you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4280" y="66600"/>
            <a:ext cx="6686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 are a product of your enviro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nvironment you live in influences your outlook on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best see this if you experienc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velling is a great way to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ing biographies or watching documentaries can also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amples on the next few slides illustrate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00000" y="66600"/>
            <a:ext cx="549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Martin Luther King J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example comes from Chapter 28 of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rtin Luther King Jr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tin Luther King lived in a middle-class ar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oved to Chicago for a few months to take part in an anti-racism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nd his family lived in an apartment in a slum area of Chicag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 he could become acquainted with such living cond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r own children lived with us in [the slum area], and it was only a few days before we became aware of the change in their behaviour. Their tempers flared, and they sometimes reverted to almost infantile behaviou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The slum area] was just too hot, too crowded, too devoid of creative forms of recreation. […] And I understood anew the conditions which make of the ghetto an emotional pressure cooke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51080" y="66600"/>
            <a:ext cx="4610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Andrew Maw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example is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Social Entreprene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Andrew Maw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ge 103 in the (unnumbered) chapt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earning From Laura Ash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rew Mawson organized a community centre in an impoverished suburb of Lond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mmunity centre was staffed by local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offered use of a large mansion in Wales for a staff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 his staff were intimidated by the mansion’s grand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woman was too frightened to sleep the first night because she found the lack of traffic noise to be disturb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t, after a few days […] all our mindsets had changed, and we were having entirely different conversations about ourselves, our homes and our plans for the futur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experience taught me how profoundly true it is to say that we are products of the environment we live i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800" y="66600"/>
            <a:ext cx="3681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and 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nvironment you live in influences your outlook on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ant to change the world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should try to experience other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ing this helps you to better understand the world you want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Just because a theory explains the fact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not mean the theory is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18:52Z</dcterms:modified>
  <cp:revision>1158</cp:revision>
  <dc:subject/>
  <dc:title>Talent Scouts and Funding Bodies</dc:title>
</cp:coreProperties>
</file>