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7D228C03-8672-4B7F-AD03-163985822F4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D21FA696-9D36-46E4-B923-FCA2EDF67C2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31800" y="66600"/>
            <a:ext cx="2413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at is flow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may have the following experience occasio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focus your attention on an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involvement with the activity becomes deep but it seems effort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become unaware of your surroundings or the passing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experience is calle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 referred to as being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 the grov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 the zon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flow has ended, you usually feel very happy and self-conf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haly Csikszentmihalyi is a psycholog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ondered “When are people happy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researching that question, he discovered the concept of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rot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low: The Psychology of Optimal Experien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explains flow and explains why it is relevant to people who want to change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31840" y="66600"/>
            <a:ext cx="6843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wareness of surroundings during fl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uring flow, people are often unaware of their surrou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experimental evidence to support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ain activity in the cerebral cortex is associated with se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viduals had activity in their cerebral cortex measured before and during an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xperiment involved individuals paying attention to flashes of light or s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wa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crease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ain activity in people who reported they rarely entered states of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wa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crease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ain activity in people who reported they often entered states of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lusion: while in flow, your brain processes only inputs relevant to the task at h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89000" y="66600"/>
            <a:ext cx="6942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low provides opportunities for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enter a state of flow when your skills are just good enough for the challenge of the tas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skills improve, you must increase the challenge to remain i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is way, flow provides opportunities for learning and improv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a state of flow has ended, you feel happ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your skills or knowledge have im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217520" y="604440"/>
            <a:ext cx="6321240" cy="3061440"/>
            <a:chOff x="1217520" y="604440"/>
            <a:chExt cx="6321240" cy="3061440"/>
          </a:xfrm>
        </p:grpSpPr>
        <p:sp>
          <p:nvSpPr>
            <p:cNvPr id="94" name=""/>
            <p:cNvSpPr/>
            <p:nvPr/>
          </p:nvSpPr>
          <p:spPr>
            <a:xfrm>
              <a:off x="1598400" y="762120"/>
              <a:ext cx="5791320" cy="25146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20247600">
              <a:off x="1281960" y="1815840"/>
              <a:ext cx="64137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98400" y="762120"/>
              <a:ext cx="0" cy="251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98400" y="3276720"/>
              <a:ext cx="579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74720" y="3353040"/>
              <a:ext cx="5715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ki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6200000">
              <a:off x="154800" y="1824480"/>
              <a:ext cx="24382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halle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0244600">
              <a:off x="1425240" y="1941480"/>
              <a:ext cx="59277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hallenge is suitable for skill level </a:t>
              </a:r>
              <a:r>
                <a:rPr b="0" lang="en-GB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F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03720" y="2286000"/>
              <a:ext cx="2057400" cy="83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allenge is too easy for skill level </a:t>
              </a:r>
              <a:r>
                <a:rPr b="0" lang="en-GB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bored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50680" y="1067040"/>
              <a:ext cx="2057400" cy="83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allenge is too hard for skill level </a:t>
              </a:r>
              <a:r>
                <a:rPr b="0" lang="en-GB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anxie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31800" y="66600"/>
            <a:ext cx="7856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tering a state of flow for different activiti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people experience flow for a particular ac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t activity varies from one person to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 playing chess, painting, mountain climbing, swimming, reading, gardening, writing, composing music, playing a sport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people invent games to enter a state of flow during boring activ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ing this can turn a boring situation into an interesting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man, had a repetitive boring job on a factory assembly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ask performed on each unit was supposed to take 43 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set himself the challenge of doing it f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 a five-year period, he reduced his time to 28 seconds per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240" y="66600"/>
            <a:ext cx="8945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tering a state of flow for different activities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pass time in boring meetings, a man composed complex sequences of finger t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people invent games to enter a state of flow during times of str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ing this can turn a stressful situation into an invigorating challe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from former prison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y chess against yourself in your 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se and memorise po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ld imaginary conversations in a foreign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a Hungarian prison, inmates kept themselves occupied for over a year by secretly running poetry translation compet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93760" y="66600"/>
            <a:ext cx="4905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low and the meaning of lif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haly Csikszentmihalyi claims that flow can help you to find the meaning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s logic is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the meaning of lif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whatever provides you with meaning in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do you find meaning in lif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frequently doing an activity that puts you in a state of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17560" y="66600"/>
            <a:ext cx="5680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levance to changing the wor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sons why flow is relevant to people who want to change the worl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ing the world takes a lot of time and effo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ay not have the required endurance if there is a lot of anxiety or bore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r effort frequently puts you in a state of flow then you will find it to be deeply satisf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suggests two useful pieces of adv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work of changing the world should be based on flow-induc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at is not feasible then invent mind games to help you enter a state of flow for boring or stressful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6-30T12:56:03Z</dcterms:modified>
  <cp:revision>1121</cp:revision>
  <dc:subject/>
  <dc:title>Flow</dc:title>
</cp:coreProperties>
</file>