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a Weakness into a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382072B-23DC-4C8B-9C9B-989C7980E2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E581F45-DC1A-4D58-AB0D-F7099F15A2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rn a Weakness into a Streng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01600" y="66600"/>
            <a:ext cx="3282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r Arthur Pear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r Arthur Pea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ed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ily Expre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spaper in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dually lost his eyesight due to the disease Glau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World War One sta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thur heard about a soldier who had been blinded in ba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lized that many other soldiers would also be bli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default, most of them would lead “hopeless and useless liv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hur founded a hospital, St Dunstan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hospital, soldiers could “learn to be bli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blind himself, Arthur was able to inspire and teach the sol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68400" y="66600"/>
            <a:ext cx="174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have a weakness of some s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 di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 lack of skill, social etiquette or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weakness does not have to hold you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it is possible to turn a weakness into a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have a weakness of some s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 di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 lack of 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an you do with a weakness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ould use it as an excuse to not try to succeed. 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ould find a way to turn the weakness into a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provides some examples of people who turned a weakness into a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2520" y="66600"/>
            <a:ext cx="22370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amie Oli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ie Oliver is a celebrity chef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uffers from dyslex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could he turn that disability into a benef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with dyslexia find ways to express themselves that do not involve reading or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through art or physical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ie uses a lot of body movement when communic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akes him work well in front of a 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fact, this helped him get his initial contract to be a TV 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V chef needs to write recipe boo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mie dictates his recipe books (9 so far) into a tape recorder and gets somebody else to typ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ctation is probably a faster way to write than typing or pen-and-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41160" y="66600"/>
            <a:ext cx="2397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uce Jenn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uce Jenner won a gold medal in the 1976 Olympics in the decath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s dyslex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Bruce, the difficulty of reading taught him to work hard to achieve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 wasn’t dyslexic, I probably wouldn’t have won the Games. If I had been a better reader then that would have come easily, sports would have come easily… and I never would have realized that the way you get ahead in life is hard work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17920" y="66600"/>
            <a:ext cx="2038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ob Geld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Geld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hieved fame as the lead singe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oomtown Ra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-authored the Band-Aid singl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They Know It’s Christmas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elped organize Live Aid (and, 20 years later, Live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’s weakness is that he is tactless and often says the wrong t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held back the caree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oomtown Ra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was able to turn this drawback into a benef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enabled him to say things to world leaders that other people were too timid to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62160" y="66600"/>
            <a:ext cx="3027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ichard Stall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growing up, Richard Stallman was a social outc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e to a combination of poor social skills, a lack of interest in popular culture, his high intelligence and geeki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turned this into a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a social outcast meant that he grew used to rejection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did not fear yet more rejection when he started to develop fre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81040" y="66600"/>
            <a:ext cx="2514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ita Roddi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ta Roddick found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Body Sh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 weakness was very limited 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she could not afford “proper” packaging bottles for shamp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eapest bottles she could find were urine sample bot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asked customers to bring back empty bottles for ref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cept of cheap, reusable packaging became a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fit in with ideas of environment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65320" y="66600"/>
            <a:ext cx="1346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ndh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’s weakness was a fear of public spea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greatly hindered his social life and his career as a lawyer in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turned his weakness into a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thought carefully about what he wanted to say before he opened his m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of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learned to communicate concis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arely said things that he later regre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ually, Gandhi overcame his fear of spe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he continued to think carefully before spe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9:22Z</dcterms:modified>
  <cp:revision>1120</cp:revision>
  <dc:subject/>
  <dc:title>Turn a Weakness into a Strength</dc:title>
</cp:coreProperties>
</file>