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54A7715-1074-4B4E-80EA-71DB87CA3F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03261A6-DD30-4C66-A419-E90F28D281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0800" y="66600"/>
            <a:ext cx="3132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effective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like most people then you probably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asionally have a new idea: “Hey, I thought of a good way to d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hink about the idea it seems better and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ll your idea to somebody else and they say “It is flawed because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think the other person is too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erson thinks you are stupid or naï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ecide it is too frustrating to share your ideas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end to view ideas in a one-sid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initially think an idea is good then we look only for reasons to support that view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we initially think an idea is bad th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view a debate as a competition with a winner and a 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9200" y="66600"/>
            <a:ext cx="356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right Br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flew the first airplane in 19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pent 4½ years doing research into flying before they suc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time they developed and tested many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father taught them a way to debate produc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dinner table he picked a topic for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r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ic and the 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 while, the father asked them to switch sides in the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doing this, the br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 to look at an issue from multiple (at least two)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ed debating not as competition, but as a cooperative way to uncover th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s used this tactic frequently in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ed them beat aviation researchers who had better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85920" y="66600"/>
            <a:ext cx="292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 coined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teral thinkin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written many books on techniques to impro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one of his firs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ore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inspired by his academic research into phys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tailed discussion of his ideas is outside the scope of this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 next few slides provide a brief outline to arouse your curi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112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(imaginary) hats have different col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denotes objective facts and beliefs (that is, unchecked fa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 denotes emotions. Example: “I don’t know why, but I don’t lik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llow denotes optimism, hope and posi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denotes caution. It is used to point out weaknesses in a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denotes creativity and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ue is used by the facilitator to control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puts on his blue hat and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o discuss &lt;topic&gt;. We will use &lt;sequence of hats&gt;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, put on your &lt;colour&gt; ha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gives comments according to the current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tells the group when to switch to another 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cilitator uses the blue hat at the end to conclud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500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imaginary hats serves a few purpo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elps people to explore an idea from different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right brothers’ technique explored an idea from two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ts help you explore an idea from five different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moves people’s egos from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oks for flaws when wearing the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s for positive ideas when wearing the yellow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useful detail that is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very readable and quite short (less than 2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debates are not productive because they are 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used debate in a more construc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witched sides, so they could tease out the truth of the issue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ore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ego-less way to examine an issue from five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0:41Z</dcterms:modified>
  <cp:revision>1123</cp:revision>
  <dc:subject/>
  <dc:title>Constructive Debate</dc:title>
</cp:coreProperties>
</file>