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felong Lear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AB74CA08-6312-4E6C-BB13-8673C83EECE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14D7D76B-AD29-4529-8FEB-EB71FB21482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Lifelong Learn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66600"/>
            <a:ext cx="63342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levance of home schooling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critics of the regular school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 not believe schools teach a lot that i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sele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tead they believe schools teach a lot that i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harmfu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part of this harm involves destroying entrepreneurial spir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wspaper articles about a business tycoon might sa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achieved his great succes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espit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aving school at the age of 12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haps the newspaper article should sa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achieved his great succes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ecaus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left school at the age of 12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 not think “I’m not educated enough to change the worl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don’t need a Ph.D. or MBA, or even a high school diplo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17560" y="66600"/>
            <a:ext cx="5695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ibliography for home school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etailed discussion of home schooling is outside the scope of this training cour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are interested in this topic t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by reading personal accounts of home-schooling familie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ree Range Educ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dited by Terri Dow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Teenage Liberation Handbo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by Grace Llewelly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l Liv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dited by Grace Llewelly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theory and history of home schooling, read books by John Hol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John Taylor Gat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felong learning is common to many successful peo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y biographies explicitly mention lifelong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 all learners are leaders, but the research clearly shows that the strongest leaders are continuous learners.”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Jim Clem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felong learning doe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ve to involve formal educ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ten it is done by reading a wide range of 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 by trying new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state of flow helps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me-schooling books are interesting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even if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disagree with much of what they sa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ir critiques of regular schooling can be insight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suggest effective ways to learn without the expense of schoo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can help you to increase your confi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7120" y="66600"/>
            <a:ext cx="60530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importance of lifelong lear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iographies of people who have changed the world indicate that they never stopped lear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learned partly because they enjoyed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ten, things they learned provided inspiration for their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times, they got cross-fertilization of ideas from different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levant quote (and article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5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 all learners are leaders, but the research clearly shows that the strongest leaders are continuous learners.”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Jim Clemmer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jimclemmer.com/leadership-and-learning-are-indispensable.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want to change the world then increase your chances by continually learning throughout your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Practical issues for lifelong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01440" y="66600"/>
            <a:ext cx="55198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echniques for lifelong lear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felong learning can take different for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people read books in their spar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seek out new experi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all from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Flow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pt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flow experience provides a challenge so it promotes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many successful people, continual learning rarely involves formal educ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ographies indicate many successful people actually dislike formal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916000" y="66600"/>
            <a:ext cx="3267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earning paralys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 aware of “learning paralysi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nding years to learn something “properly” before you start doing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reality, there are two ways to lear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ust do it. The practice will make you be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ust do it, and complement this with reading about the su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ading about a subject is rarely sufficient by it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origin of learning paralysis might be in the school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hools use book reading and lectures as the primary learning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arning through practice is much less common in sch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want to change the world t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ust do it. The practice will make you be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lement the “doing” with learning, but don’t postpone the “doin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Home schoo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41440" y="66600"/>
            <a:ext cx="44308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hat is home schooling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Home schooling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learning at home instead of in a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family might choose home schooling be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family travels constantly (perhaps in a circus) so children cannot be enrolled in a 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ir children struggle academically in school or are bull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ir children learn best in their own time and at their own 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people thin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gular school is best or is the only 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me schooling is an inferior substitute, to be used only if attending a regular school is im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ever, a growing number of people thin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gular school is actively harmful to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me schooling is prefer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59120" y="66600"/>
            <a:ext cx="51465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levance of home school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me schooling is relevant to this course in several way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lack the confidence to try to change the world t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haps attending regular schools destroyed your confi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books about home schooling offer good critiques of what problems exist in regular sch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may gain a “It’s not just me” or “It’s not my fault” insight that can restore your confi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haps you suffer from learning paralys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oks about home schooling explain why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oi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thing can be a better way to learn than just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eading abou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may gain the confidence to do things imperfectly now rather than wait until you are an expert before you start to do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7-08T22:35:12Z</dcterms:modified>
  <cp:revision>1125</cp:revision>
  <dc:subject/>
  <dc:title>Lifelong Learning</dc:title>
</cp:coreProperties>
</file>