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348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chorCtr="1">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Challenging Hidden Assumptions in Loaded Questions</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06287A94-1EDA-4912-B486-821867415700}"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D2A3E2FD-7EAB-449F-9079-9235A1B41D2E}"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040"/>
            <a:ext cx="8858160" cy="98100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Challenging Hidden Assumptions</a:t>
            </a:r>
            <a:br>
              <a:rPr sz="3600"/>
            </a:br>
            <a:r>
              <a:rPr b="1" lang="en-GB" sz="3600" spc="-1" strike="noStrike">
                <a:solidFill>
                  <a:srgbClr val="000000"/>
                </a:solidFill>
                <a:latin typeface="Arial"/>
              </a:rPr>
              <a:t>in Loaded Questions</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4"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Homosexuality is not normal (or na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04680" y="66600"/>
            <a:ext cx="7319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Homosexuality is not normal (or natural)”</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t>
            </a:r>
            <a:r>
              <a:rPr b="0" lang="en-GB" sz="2400" spc="-1" strike="noStrike">
                <a:solidFill>
                  <a:srgbClr val="000000"/>
                </a:solidFill>
                <a:latin typeface="Arial"/>
              </a:rPr>
              <a:t>Normal” has several meanings, includ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ypical, comm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ral or ethic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t>
            </a:r>
            <a:r>
              <a:rPr b="0" lang="en-GB" sz="2400" spc="-1" strike="noStrike">
                <a:solidFill>
                  <a:srgbClr val="000000"/>
                </a:solidFill>
                <a:latin typeface="Arial"/>
              </a:rPr>
              <a:t>Natural” has several meanings, includ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ccurs in nature (which means that it is typical or comm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ral or ethic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next few slid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iscuss some common approaches to tackling this loaded clai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n discuss an assumption hidden in the cla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36600" y="66600"/>
            <a:ext cx="84866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Homosexuality is not common or part of nature”</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mmon reply to “homosexuality is not common and does not occur in natur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Use an Internet search engine for “homosexuality anima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ne useful reference: http://www.news-medical.net/?id=20718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ummary of search:</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mosexuality has been observed in over 1500 spe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cluding huma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125440" y="66600"/>
            <a:ext cx="4886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Homosexuality is immoral”</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mmon reply to “homosexuality is immoral”…</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morality is defined in terms of religious beliefs, s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Look in the Bible (or equivalent book for another religion) for:</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utral or positive references to homosexualit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ther taboos that are widely ignored toda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gue that such contradictions enable us to ignore Bible-based homophobia with a clear conscie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30320" y="66600"/>
            <a:ext cx="3423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Hidden assumption</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 is an assumption in “homosexuality is not norm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sumption is that something else (heterosexuality) is norm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assumption can be challenged with a counter-clai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 don’t believe anyone is normal. Everyone is a perve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are two parts to this counter-clai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art 1 (challenging “normal = typic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is enormous variety in sexual practices of (even) heterosexual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o one sexual position or act is dominant enough to be “typic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art 2 (challenging “normal = mor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ligions condemn many sexual acts that (even) heterosexuals commonly emplo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fore, most heterosexuals are just as immoral as homosexu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8240" y="66600"/>
            <a:ext cx="7577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hould hidden assumptions be challenged?</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purpose of the previous slid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s </a:t>
            </a:r>
            <a:r>
              <a:rPr b="0" i="1" lang="en-GB" sz="2000" spc="-1" strike="noStrike">
                <a:solidFill>
                  <a:srgbClr val="000000"/>
                </a:solidFill>
                <a:latin typeface="Arial"/>
              </a:rPr>
              <a:t>not </a:t>
            </a:r>
            <a:r>
              <a:rPr b="0" lang="en-GB" sz="2000" spc="-1" strike="noStrike">
                <a:solidFill>
                  <a:srgbClr val="000000"/>
                </a:solidFill>
                <a:latin typeface="Arial"/>
              </a:rPr>
              <a:t>to force you to argue that “everyone is a pervert” rather than “homosexuality is as normal as heterosexuali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is to make you aware of more </a:t>
            </a:r>
            <a:r>
              <a:rPr b="0" i="1" lang="en-GB" sz="2000" spc="-1" strike="noStrike">
                <a:solidFill>
                  <a:srgbClr val="000000"/>
                </a:solidFill>
                <a:latin typeface="Arial"/>
              </a:rPr>
              <a:t>options </a:t>
            </a:r>
            <a:r>
              <a:rPr b="0" lang="en-GB" sz="2000" spc="-1" strike="noStrike">
                <a:solidFill>
                  <a:srgbClr val="000000"/>
                </a:solidFill>
                <a:latin typeface="Arial"/>
              </a:rPr>
              <a:t>you have in argume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Note: if 2 things are “equally good” then they are “equally bad”</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fore, the following seem like opposites, but are simila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as normal as heterosexuali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Everyone (heterosexual and homosexual) is a perve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4. Implicit compar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725560" y="66600"/>
            <a:ext cx="3679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mplicit comparisons</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sider the following claims (“X” denotes an ethnic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just a phas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not normal (or natu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s are likely to be rapists (or paedophil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are rapists, murderers,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ll of these claims contain implicit comparis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heterosexuality</a:t>
            </a:r>
            <a:r>
              <a:rPr b="0" lang="en-GB" sz="2000" spc="-1" strike="noStrike">
                <a:solidFill>
                  <a:srgbClr val="000000"/>
                </a:solidFill>
                <a:latin typeface="Arial"/>
              </a:rPr>
              <a:t>, homosexuality is just a phas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heterosexuality</a:t>
            </a:r>
            <a:r>
              <a:rPr b="0" lang="en-GB" sz="2000" spc="-1" strike="noStrike">
                <a:solidFill>
                  <a:srgbClr val="000000"/>
                </a:solidFill>
                <a:latin typeface="Arial"/>
              </a:rPr>
              <a:t>, homosexuality is not norm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heterosexuals</a:t>
            </a:r>
            <a:r>
              <a:rPr b="0" lang="en-GB" sz="2000" spc="-1" strike="noStrike">
                <a:solidFill>
                  <a:srgbClr val="000000"/>
                </a:solidFill>
                <a:latin typeface="Arial"/>
              </a:rPr>
              <a:t>, homosexuals are likely to be rapists</a:t>
            </a:r>
            <a:br>
              <a:rPr sz="2000"/>
            </a:br>
            <a:r>
              <a:rPr b="0" lang="en-GB" sz="2000" spc="-1" strike="noStrike">
                <a:solidFill>
                  <a:srgbClr val="000000"/>
                </a:solidFill>
                <a:latin typeface="Arial"/>
              </a:rPr>
              <a:t>(or paedophil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us</a:t>
            </a:r>
            <a:r>
              <a:rPr b="0" lang="en-GB" sz="2000" spc="-1" strike="noStrike">
                <a:solidFill>
                  <a:srgbClr val="000000"/>
                </a:solidFill>
                <a:latin typeface="Arial"/>
              </a:rPr>
              <a:t>, 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us</a:t>
            </a:r>
            <a:r>
              <a:rPr b="0" lang="en-GB" sz="2000" spc="-1" strike="noStrike">
                <a:solidFill>
                  <a:srgbClr val="000000"/>
                </a:solidFill>
                <a:latin typeface="Arial"/>
              </a:rPr>
              <a:t>, X people are rapists, murderers, …”</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53840" y="66600"/>
            <a:ext cx="5815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hallenging implicit comparisons</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60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can be useful to challenge the implicit comparis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ould heterosexuality be a phas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s heterosexuality norm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crime figures prove that sex-related crimes per 1000 heterosexuals is lower than sex-related crimes per 1000 homosexual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non-X people have high moral standar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crime figures prove that non-X people have lower crime rat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erhaps non-X people commit lots of crimes that are socially acceptable and hence go unrecognised. Examples:</a:t>
            </a:r>
            <a:endParaRPr b="0" lang="en-US" sz="2000" spc="-1" strike="noStrike">
              <a:solidFill>
                <a:srgbClr val="000000"/>
              </a:solidFill>
              <a:latin typeface="Arial"/>
            </a:endParaRPr>
          </a:p>
          <a:p>
            <a:pPr lvl="3" marL="1208160" indent="-16344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ob and housing discrimination against X people</a:t>
            </a:r>
            <a:endParaRPr b="0" lang="en-US" sz="2000" spc="-1" strike="noStrike">
              <a:solidFill>
                <a:srgbClr val="000000"/>
              </a:solidFill>
              <a:latin typeface="Arial"/>
            </a:endParaRPr>
          </a:p>
          <a:p>
            <a:pPr lvl="3" marL="1208160" indent="-16344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arassment, exploitation, rape, murder, genocide of X peopl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crimes by non-X people are viewed differently than similar crimes committed by X peo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83880" y="66600"/>
            <a:ext cx="7180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ackground information about Malcolm X</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is original surname was Little. He grew up poo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Became a crimin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obbery, selling drugs, illegal gambling, “steering” (escorting white clients to brothels in black ghetto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pent 8 years in prison. Converted to Islam while in jail</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hanged his surname to X to reject the name of slave own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When released from pris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became a minister in the Nation of Islam and helped increase membership from 400 to 40,000</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was a black-rights activist in the 1950s and 1960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Wrote “The Autobiography of Malcolm X” before being assassin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36320" y="66600"/>
            <a:ext cx="64292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X people have low moral standards”</a:t>
            </a:r>
            <a:endParaRPr b="1" lang="en-US" sz="2800" spc="-1" strike="noStrike">
              <a:solidFill>
                <a:srgbClr val="000000"/>
              </a:solidFill>
              <a:latin typeface="Arial"/>
            </a:endParaRPr>
          </a:p>
        </p:txBody>
      </p:sp>
      <p:sp>
        <p:nvSpPr>
          <p:cNvPr id="12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call, “X” stands for an ethnic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not confuse the “X” placeholder with Malcolm X</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hapter 7 (“Hustler”) of Malcolm X’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is “steering” job and conversations with prostitute friends enabled him to compare the (lack of) moral standards of whites and bla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robably a better-informed comparison than that of many “respectable”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is conclusion: “The hypocritical white man will talk about the Negro’s ‘low morals’. But who has the world’s lowest morals if not wh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84200" y="66600"/>
            <a:ext cx="6369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X people are rapists, murderers, …”</a:t>
            </a:r>
            <a:endParaRPr b="1" lang="en-US" sz="2800" spc="-1" strike="noStrike">
              <a:solidFill>
                <a:srgbClr val="000000"/>
              </a:solidFill>
              <a:latin typeface="Arial"/>
            </a:endParaRPr>
          </a:p>
        </p:txBody>
      </p:sp>
      <p:sp>
        <p:nvSpPr>
          <p:cNvPr id="12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non-X people conveniently overlook the large-scale crimes that their government commits on their behalf</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hapter 11 (“Saved”) of Malcolm X’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lcolm X read lots of books in the prison libra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And I read the histories of various nations, which opened my eyes gradually then wider and wider, to how the whole world’s white men had indeed acted like devils, pillaging and raping and bleeding and draining the whole world’s non-white peopl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4400" y="66600"/>
            <a:ext cx="3129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Double standards</a:t>
            </a:r>
            <a:endParaRPr b="1" lang="en-US" sz="2800" spc="-1" strike="noStrike">
              <a:solidFill>
                <a:srgbClr val="000000"/>
              </a:solidFill>
              <a:latin typeface="Arial"/>
            </a:endParaRPr>
          </a:p>
        </p:txBody>
      </p:sp>
      <p:sp>
        <p:nvSpPr>
          <p:cNvPr id="12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ten, non-X people use a double standard when commenting on similar crimes committed by X and non-X peopl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hapter 18 (“El-Hajj Malik El-Shabazz”) of Malcolm X’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New York white youth were killing victims; that was a ‘sociological’ problem. But when black youth killed somebody, the power structure was looking to hang somebody.</a:t>
            </a:r>
            <a:br>
              <a:rPr sz="2000"/>
            </a:br>
            <a:r>
              <a:rPr b="0" lang="en-US" sz="2000" spc="-1" strike="noStrike">
                <a:solidFill>
                  <a:srgbClr val="000000"/>
                </a:solidFill>
                <a:latin typeface="Arial"/>
              </a:rPr>
              <a:t>…</a:t>
            </a:r>
            <a:br>
              <a:rPr sz="2000"/>
            </a:br>
            <a:r>
              <a:rPr b="0" lang="en-US" sz="2000" spc="-1" strike="noStrike">
                <a:solidFill>
                  <a:srgbClr val="000000"/>
                </a:solidFill>
                <a:latin typeface="Arial"/>
              </a:rPr>
              <a:t>When whites had rifles in their homes, the Constitution gave them the right to protect their home and themselves. But when black people even spoke of having rifles in their homes, that was ‘ominou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73480" y="66600"/>
            <a:ext cx="43164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Double standards (cont’)</a:t>
            </a:r>
            <a:endParaRPr b="1" lang="en-US" sz="2800" spc="-1" strike="noStrike">
              <a:solidFill>
                <a:srgbClr val="000000"/>
              </a:solidFill>
              <a:latin typeface="Arial"/>
            </a:endParaRPr>
          </a:p>
        </p:txBody>
      </p:sp>
      <p:sp>
        <p:nvSpPr>
          <p:cNvPr id="13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July 2007, some Muslim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lanted two car bombs outside London nightclub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rashed a car into Glasgow airpo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se events were widely reported in the English media</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t there was significantly less reports of the 25+ retaliation attacks in the following weeks</a:t>
            </a:r>
            <a:br>
              <a:rPr sz="2000"/>
            </a:br>
            <a:r>
              <a:rPr b="0" lang="en-US" sz="2000" spc="-1" strike="noStrike">
                <a:solidFill>
                  <a:srgbClr val="000000"/>
                </a:solidFill>
                <a:latin typeface="Arial"/>
              </a:rPr>
              <a:t>(including a car bomb, a petrol bomb, and a near-fatal stabbing)</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sults of Google search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car bomb Glasgow airport”: 75,500 resul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car bomb Glasgow airport revenge”: 882 results</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3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Summary and con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04840" y="66600"/>
            <a:ext cx="5104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 and further reading</a:t>
            </a:r>
            <a:endParaRPr b="1" lang="en-US" sz="2800" spc="-1" strike="noStrike">
              <a:solidFill>
                <a:srgbClr val="000000"/>
              </a:solidFill>
              <a:latin typeface="Arial"/>
            </a:endParaRPr>
          </a:p>
        </p:txBody>
      </p:sp>
      <p:sp>
        <p:nvSpPr>
          <p:cNvPr id="13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claims about oppressed groups are loaded with hidden assump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Homosexuality is just a phase” assumes that a phase is ba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a:t>
            </a:r>
            <a:r>
              <a:rPr b="1" lang="en-GB" sz="2000" spc="-1" strike="noStrike">
                <a:solidFill>
                  <a:srgbClr val="000000"/>
                </a:solidFill>
                <a:latin typeface="Arial"/>
              </a:rPr>
              <a:t>Unlike us</a:t>
            </a:r>
            <a:r>
              <a:rPr b="0" lang="en-GB" sz="2000" spc="-1" strike="noStrike">
                <a:solidFill>
                  <a:srgbClr val="000000"/>
                </a:solidFill>
                <a:latin typeface="Arial"/>
              </a:rPr>
              <a:t>, 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ssumption is that non-X people have high moral standar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can counter such claims by challenging the hidden assumptions/comparisons</a:t>
            </a: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commended boo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The Gentle Art of Verbal Self Defense” by Suzette Haden Elg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was the first in a series of boo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ther titles in the series tailor the message for different audiences.</a:t>
            </a:r>
            <a:br>
              <a:rPr sz="2000"/>
            </a:br>
            <a:r>
              <a:rPr b="0" lang="en-GB" sz="2000" spc="-1" strike="noStrike">
                <a:solidFill>
                  <a:srgbClr val="000000"/>
                </a:solidFill>
                <a:latin typeface="Arial"/>
              </a:rPr>
              <a:t>Examples: at work, communicating with childr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959200" y="66600"/>
            <a:ext cx="31687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oaded questions</a:t>
            </a:r>
            <a:endParaRPr b="1" lang="en-US" sz="2800" spc="-1" strike="noStrike">
              <a:solidFill>
                <a:srgbClr val="000000"/>
              </a:solidFill>
              <a:latin typeface="Arial"/>
            </a:endParaRPr>
          </a:p>
        </p:txBody>
      </p:sp>
      <p:sp>
        <p:nvSpPr>
          <p:cNvPr id="9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ere is a famous example of a “loaded” (or “trick”) ques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Have you stopped beating your wif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question makes two important assump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have a wif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have beaten her at some t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question invites a “yes” or “no” answ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ither of these answers is an admission that you are/were a wife be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Better tacti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fuse to answer the question. 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llenge the assumptions made in a loaded question or claim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
        <p:nvSpPr>
          <p:cNvPr id="91" name=""/>
          <p:cNvSpPr/>
          <p:nvPr/>
        </p:nvSpPr>
        <p:spPr>
          <a:xfrm>
            <a:off x="3809880" y="5791320"/>
            <a:ext cx="2819520" cy="3405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is presentation</a:t>
            </a:r>
            <a:endParaRPr b="0" lang="en-US" sz="1800" spc="-1" strike="noStrike">
              <a:solidFill>
                <a:srgbClr val="000000"/>
              </a:solidFill>
              <a:latin typeface="Times New Roman"/>
            </a:endParaRPr>
          </a:p>
        </p:txBody>
      </p:sp>
      <p:sp>
        <p:nvSpPr>
          <p:cNvPr id="92" name=""/>
          <p:cNvSpPr/>
          <p:nvPr/>
        </p:nvSpPr>
        <p:spPr>
          <a:xfrm flipH="1" flipV="1">
            <a:off x="1981080" y="5257440"/>
            <a:ext cx="18288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71680" y="66600"/>
            <a:ext cx="25941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oaded claims</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claims about oppressed groups are loaded</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 for homosexuality (or another aspect of sexual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s just a phas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not normal (or natu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s are likely to be rapists (or paedophil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 for racism (where “X” stands for an ethnic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are rapists, murderers,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are terroris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Let’s examine some of these ex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It’s just a ph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968200" y="66600"/>
            <a:ext cx="3148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It’s just a phase”</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mmon reply: “it’s </a:t>
            </a:r>
            <a:r>
              <a:rPr b="0" i="1" lang="en-GB" sz="2400" spc="-1" strike="noStrike">
                <a:solidFill>
                  <a:srgbClr val="000000"/>
                </a:solidFill>
                <a:latin typeface="Arial"/>
              </a:rPr>
              <a:t>not </a:t>
            </a:r>
            <a:r>
              <a:rPr b="0" lang="en-GB" sz="2400" spc="-1" strike="noStrike">
                <a:solidFill>
                  <a:srgbClr val="000000"/>
                </a:solidFill>
                <a:latin typeface="Arial"/>
              </a:rPr>
              <a:t>a phase. I’ve been like this for yea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ounter-reply: “You will </a:t>
            </a:r>
            <a:r>
              <a:rPr b="0" i="1" lang="en-GB" sz="2000" spc="-1" strike="noStrike">
                <a:solidFill>
                  <a:srgbClr val="000000"/>
                </a:solidFill>
                <a:latin typeface="Arial"/>
              </a:rPr>
              <a:t>eventually </a:t>
            </a:r>
            <a:r>
              <a:rPr b="0" lang="en-GB" sz="2000" spc="-1" strike="noStrike">
                <a:solidFill>
                  <a:srgbClr val="000000"/>
                </a:solidFill>
                <a:latin typeface="Arial"/>
              </a:rPr>
              <a:t>grow out of i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mplicit assumption in the clai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word “just” is used in the claim to reduce importa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 the assumption is that a phase is not importa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ctually, phases occur throughout l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childhood, adolescence, (young) adult, middle age, old ag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as your childhood unimportant “just” because it was a phas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length of a phase is not a measure of its importan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ildhood lasts more than a deca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terrible twos” last (hopefully) only a few months but are an important part of a child’s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777760" y="66600"/>
            <a:ext cx="3544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Examples of phases</a:t>
            </a:r>
            <a:endParaRPr b="1" lang="en-US" sz="2800" spc="-1" strike="noStrike">
              <a:solidFill>
                <a:srgbClr val="000000"/>
              </a:solidFill>
              <a:latin typeface="Arial"/>
            </a:endParaRPr>
          </a:p>
        </p:txBody>
      </p:sp>
      <p:sp>
        <p:nvSpPr>
          <p:cNvPr id="10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ablo Picasso went through many phases (periods) in his ar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lue period, rose period, African period, (various types of) cubis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is common for a musician or band to change musical sty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arly U2 is quite different to later U2. Same for the Beatl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ink Floyd: psychedelic period, Dark Side of the Moon, later on Roger Waters wrote an opera</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uring your life you probably had phases for lik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bbies: reading, art, model construction, danc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musicians or genres of music, authors or genres of boo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genres of) movies, TV shows, actors, directo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kinds of spo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types of food or drin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types of work, so you had a career change</a:t>
            </a: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35080" y="66600"/>
            <a:ext cx="5029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Phases should be celebrated</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is not right to dismiss something because it is “just” a phas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nglish idiom: “variety is the spice of l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ans that life is more interesting when you try different thing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hases in your life bring variety and so should be </a:t>
            </a:r>
            <a:r>
              <a:rPr b="0" i="1" lang="en-GB" sz="2400" spc="-1" strike="noStrike">
                <a:solidFill>
                  <a:srgbClr val="000000"/>
                </a:solidFill>
                <a:latin typeface="Arial"/>
              </a:rPr>
              <a:t>celebrated</a:t>
            </a:r>
            <a:r>
              <a:rPr b="0" lang="en-GB"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sider the following hypothetical convers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X:</a:t>
            </a:r>
            <a:r>
              <a:rPr b="0" lang="en-GB" sz="2000" spc="-1" strike="noStrike">
                <a:solidFill>
                  <a:srgbClr val="000000"/>
                </a:solidFill>
                <a:latin typeface="Arial"/>
              </a:rPr>
              <a:t>	</a:t>
            </a:r>
            <a:r>
              <a:rPr b="0" lang="en-GB" sz="2000" spc="-1" strike="noStrike">
                <a:solidFill>
                  <a:srgbClr val="000000"/>
                </a:solidFill>
                <a:latin typeface="Arial"/>
              </a:rPr>
              <a:t>“Your homosexuality is just a phase”</a:t>
            </a:r>
            <a:endParaRPr b="0" lang="en-US" sz="2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a:t>
            </a:r>
            <a:r>
              <a:rPr b="0" lang="en-GB" sz="2000" spc="-1" strike="noStrike">
                <a:solidFill>
                  <a:srgbClr val="000000"/>
                </a:solidFill>
                <a:latin typeface="Arial"/>
              </a:rPr>
              <a:t>	</a:t>
            </a:r>
            <a:r>
              <a:rPr b="0" lang="en-GB" sz="2000" spc="-1" strike="noStrike">
                <a:solidFill>
                  <a:srgbClr val="000000"/>
                </a:solidFill>
                <a:latin typeface="Arial"/>
              </a:rPr>
              <a:t>“Possibly. Of course, that means my heterosexuality was a phase too.</a:t>
            </a:r>
            <a:br>
              <a:rPr sz="2000"/>
            </a:br>
            <a:r>
              <a:rPr b="0" lang="en-GB" sz="2000" spc="-1" strike="noStrike">
                <a:solidFill>
                  <a:srgbClr val="000000"/>
                </a:solidFill>
                <a:latin typeface="Arial"/>
              </a:rPr>
              <a:t>	</a:t>
            </a:r>
            <a:r>
              <a:rPr b="0" lang="en-GB" sz="2000" spc="-1" strike="noStrike">
                <a:solidFill>
                  <a:srgbClr val="000000"/>
                </a:solidFill>
                <a:latin typeface="Arial"/>
              </a:rPr>
              <a:t>Do you think your heterosexuality is also a phas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X is likely to feel baffled and possibly angry by the respons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 is </a:t>
            </a:r>
            <a:r>
              <a:rPr b="0" i="1" lang="en-GB" sz="2000" spc="-1" strike="noStrike">
                <a:solidFill>
                  <a:srgbClr val="000000"/>
                </a:solidFill>
                <a:latin typeface="Arial"/>
              </a:rPr>
              <a:t>not </a:t>
            </a:r>
            <a:r>
              <a:rPr b="0" lang="en-GB" sz="2000" spc="-1" strike="noStrike">
                <a:solidFill>
                  <a:srgbClr val="000000"/>
                </a:solidFill>
                <a:latin typeface="Arial"/>
              </a:rPr>
              <a:t>defending his/her sexualit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Y is challenging core beliefs and assumptions of 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8T22:42:47Z</dcterms:modified>
  <cp:revision>1167</cp:revision>
  <dc:subject/>
  <dc:title>Challenging Hidden Assumptions in Loaded Questions</dc:title>
</cp:coreProperties>
</file>