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mport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-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63A457C-460C-4F00-B8A1-CEF3EDC2152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C9C85E4-3BC4-46EF-9AD0-8381971000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Importance of Non-core Ski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jobs have an obvious “core” 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 of such jobs: doctor, nurse, teacher, programmer, football player, musician, art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: “I can have a successful career if my core skill is better than most other peo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ing an excellent core skill may be necessary but i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need to have “good enough” non-core skill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lains why having poor non-core skills can hold back your career or activist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ggests ways to improve your non-core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1120" y="66600"/>
            <a:ext cx="5400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Fred the program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is a skilled programmer &amp; works at a softwa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would love to spend all his working time doing programming. How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pend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ess than half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his time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his time is spent doing other task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project planning, high-level design, writing progress reports, team meetings, meetings with people in other departments (sales, marketing, documentation), mentoring new colleagues, email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Fred has poor skills for those non-programming tasks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s poor skills for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jor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his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lack of skills is likely to hold back his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44160" y="66600"/>
            <a:ext cx="6588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Fred the programmer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has 3 choices (2 of which are bad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ic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ill become even more skilled at programming; this will compensate for my poor non-core skil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Fred remains with poor skills for the majority of his job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not good for his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ic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 behave rudely then maybe I won’t be invited to meetings or asked to mentor new employe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Cultivating a bad personality is unlikely to help his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ic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ill improve my non-core skills so they are ‘good enough’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Fred’s career impr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8840" y="66600"/>
            <a:ext cx="3897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 from a mov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ovi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d The Band Played 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vides an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ovie is about scientists in the 1980s who investigated a new disease (AIDS) as it spread through America and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in character in the move is Dr. Don Franci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layed by Matthew Mod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. Don Franc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 excellent medical research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he has poor communication skill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e is sometimes tactless when communicating with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several occasions, things he says annoy people and they react by making his work ha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15520" y="66600"/>
            <a:ext cx="6270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to improve your non-core sk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improve non-core skills through formal education or training. How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n be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work schedule might clash with the education time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way is through self-stu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books on various topics, such as, management, leadership, project planning, sales, marketing, how to organize meetings, customer service, public speaking, writing skill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 your manager or colleagues to recommend such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“self-help” books provide useful advice, for example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w to Win Friends and Influence Peopl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Dale Carne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e the techniques used by colleagues who have better non-core skills than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0200" y="66600"/>
            <a:ext cx="7049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of business skills for activ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activ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me many of the world’s problems on greedy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to reject anything associated with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many business skills are relevant to activist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ment and leadership skills, so you can organize people to work together to achieve a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ing and sales skills, so you can communicate and “sell” your message to the general public in an effective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management skills, so you can be more productive in your activis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ook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Lifelong Activis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Hillary Rettig is useful.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lains the importance of these skills for activ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simple, introductory lessons for some usefu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68400" y="66600"/>
            <a:ext cx="174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have an excellent core skill but poor non-cor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or non-core skills are likely to hold you back, both in a paying career and in ac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mportant to find ways to improve your non-cor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f-study is probably a more affordable way than formal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48Z</dcterms:modified>
  <cp:revision>1125</cp:revision>
  <dc:subject/>
  <dc:title>Overlap of Business Skills and Activist Skills</dc:title>
</cp:coreProperties>
</file>