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se of the “Genius” 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4EDDCC0-9E44-434A-9251-26BF0362974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92A897F-9524-4A29-8802-1B976EB18C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urse of the “Genius” Lab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5240" y="66600"/>
            <a:ext cx="6249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blems with being called a geni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may develop unrealistic expectations of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think “You’re a genius so you can do anyth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usually impossible to live up to their unrealistic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en people become disappointed in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one of these disappointed people is your manager then bonuses, pay rises and promotions may occur less frequ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 something developed by a genius must be compl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d have to be a genius to understand tha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ey won’t bother trying to understand you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akes it difficult for you to promote the results of you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problems mean “You are a genius” is more of a curse than a compl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19040" y="66600"/>
            <a:ext cx="6553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realistic expectations of a “geniu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esting arti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t Isn’t Easy Being a Geniu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Jim Collins, New York Times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September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nytimes.com/2005/09/19/opinion/19collins.html?_r=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ef summ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uthor was called a genius by the US national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result, people developed unrealistic expectations of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mily, friends and strangers asked hi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investment advice, questions on unusual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listen to theories they h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iends were frustrated he wasn’t better at playing Trivial Purs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young daughter was disappointed when he was no good at playing a children’s card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leagues assumed his research papers were all accepted for pub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Advice and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90520" y="66600"/>
            <a:ext cx="1289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nish “genius” from your vocabulary because of ambigu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 it mean a high IQ or natural a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does it mean inspiration plus hard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ead, explicitly say what you mean. 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very intellig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is a good bit of inspir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impressed with how hard you worked on thi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03360" y="66600"/>
            <a:ext cx="2476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eat the label “genius” as a curse rather than a compl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ject and fight this c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fight it through education (such as this prese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our can hel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ed to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enius, but I’m retired now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’t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enius: I work only part-tim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say I’m a genius? Thank you, and yes, I do work har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h jokes are likely to receive a puzzled respo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gives you an opportunity to educate people that “genius” refers to “hard work” rather than an innat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rm “genius” is widely misunderst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insical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ior ability you are born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you reach a state of genius (superior ability) through lots of practice and har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isunderstanding can cause problems. People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miss your claims of having worked hard because “you are a geniu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unrealistic expectations of you that you cannot live up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nore your work because “only another genius could understand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pt the label “genius” as a compl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s effects are like a curse that can hinder your career or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What is geni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4800" y="66600"/>
            <a:ext cx="7180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common misunderstanding of “geniu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rm “genius” can be used to mean a superior 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is a genius”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“he has a very high intellige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ael Jordan was a genius on the basketball cour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nothing wrong with the above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“genius” is often used to mean a superior ability that come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aturall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 per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ther words, either you are born a genius or you are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are not born Superman, you will never be bullet proof, be able to fly or have X-ray vision, regardless of how much you prac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wise, if you are not born with the relevant abilities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never be as intelligent as Albert Ei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never play basketball as well as Michael Jor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ommonly held understanding of “genius” is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56120" y="66600"/>
            <a:ext cx="2769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omas Ed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mas Edison was a famous American inven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inventions include the light bulb and the phono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is widely regarded as a gen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mous quote from Thomas Edi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ius is 1% inspiration and 99% perspir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t points to note about this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do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tion anything about be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orn wit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ior 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1% and 99% figures are inaccurate plac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likely to be 1 unit of inspiration and 10,000+ units of har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’t assume he was being modest. Perhaps he was making an ins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called a ‘genius’ because I work hard. You are no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led that because you are laz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73360" y="66600"/>
            <a:ext cx="3741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“genius” of st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omas Edison’s quote accu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it valid only for him? Or does it hold for many other geniuses to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rm “genius” is often applied to the best people in a field, such as sports, music, art, movies, busines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re such people born already being “the best”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did they have to work very hard to become the b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swer (at least fo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uses) is: they worked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verify this by reading biographies of “the best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ok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indse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Carol S. Dweck comes to the same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 young prodigies usually work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85480" y="66600"/>
            <a:ext cx="4929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“genius” of star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a sports geni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ael Jordan is regarded as the best basketball player 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several basketball teams rejected him because he was not (yet) good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skill was “mediocre” initially. Hard work made it “good”, “better”, “great” and eventually “geniu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d to continue working hard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m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t the “genius”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it seems Thomas Edison was 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ius = a small bit of inspiration plu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ar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ips on finding inspiration, se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Status Quo is Flaw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of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ward de Bono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ateral Think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y Not?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Barry Nalebuff and Ian Ay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Why the “genius” label can be a c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08440" y="66600"/>
            <a:ext cx="3324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 are a geniu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a genius” is normally intended as a compl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somebody calls you a genius they probably assu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ere born with a superior talent or I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don’t have to work hard to achieve excellen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ssumptions of you are likely to be incorr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e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rn sup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i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to work 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incorrect assumptions can cause you problem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43:17Z</dcterms:modified>
  <cp:revision>1280</cp:revision>
  <dc:subject/>
  <dc:title>Curse of the “Genius” Label</dc:title>
</cp:coreProperties>
</file>