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64338" cy="9885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ticism and Rej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EA995F63-7517-4A06-B9CD-9ADAD70D3B6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8C6CD648-AC4D-425C-940F-F7B63D1843F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riticism and Reje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56840" y="66600"/>
            <a:ext cx="64119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ssumptions about your motiv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people will criticize you, not for what you have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for what they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 your moti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b Geld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s the lead singer of The Boomtown R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had many hits, but by 1984 they were no longer pop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had finished recording a new album and wanted to promote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b Geldof was moved by a news report about famine in Ethio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a result, he spent many months organizing Band Aid and Live A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meant The Boomtown Rats could not promote their new album effectively, and its chances of success slipped a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people assumed Bob Geldof organized Band Aid and Live Aid as a gimmick to promote his music car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65080" y="66600"/>
            <a:ext cx="5584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ccuse first, ask questions la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people will make accusations based on assu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can’t be bothered to ask questions to discover the facts fir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vid Bailey is a famous photograp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released a charity book entitle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magine: A Book for Band Ai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les of this book raised £200,000 for Band A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 the launch of the book, a journa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umed he had travelled to Ethiopia first class at Band Aid’s expe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tacked him for wasting money that could have been used for ch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fact, David Baile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d travelled in the hold of a cargo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id all his own travel and living expe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ave his time and talent free of charge for th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8604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wton’s third law of mo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every action there is an equal and opposite reac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variation applies to people who try to bring about chan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every action there is an equal and opposite criticism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try to bring about change then you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will b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itic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criticisms may be justified, but much will be unjust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likely that the greater the change, the greater the critic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is no magic shield to defend you from such criticis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iticisms always 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understanding that “criticism happens” helps to deflect some of the 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41240" y="66600"/>
            <a:ext cx="2197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try to bring about significant change then you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will b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iticized unjus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of the reasons for unjust criticisms have been discussed in earlier chap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hap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mmarizes the reasons for unjust criticisms given in earlier chap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cusses some forms used for unjust critic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useful to be forewarned that you will face unjust criticis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nowing that other people have faced similar, unjust criticisms takes some of the sting out of the critic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can view the existence of unjust criticisms as a sign that you are making pro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Recap of reasons for unjust critic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9400" y="66600"/>
            <a:ext cx="57391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cap: The Status Quo is Flaw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ollowing quote was used in the chapter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e Status Quo is Flaw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reasonable man adapts himself to the world; the unreasonable one persists in trying to adapt the world to himself. Therefore, all progress depends on the unreasonable man.”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rge Bernard Sh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quote is relevant be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ople who are viewed as being unreasonable are critic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fore, people who bring about progress are critic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of the criticisms you will face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that was a good idea then somebody else would have thought of it already.”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Your idea is stup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urrent system was designed by experts. Apparently you think you know better than the experts.”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You are arrog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30160" y="66600"/>
            <a:ext cx="56401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cap: The Innovator’s Dilemm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ganizations serving an established, mainstream market sometimes reject innov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rejected innovation might succeed in a smaller, niche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ccess in the niche market enables the innovation to m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matured innovation might then succeed in the mainstream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initial rejection often comes with criticis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you believe in your innovation then do not take the criticisms to he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tead, look for a niche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4360" y="66600"/>
            <a:ext cx="52052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cap: The Confirmation Bi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firmation bias s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ople form an opinion based on first impre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wards, they tend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en to data that confirm their already-held opi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miss data that contradict their already-held opi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firmation bias can result in two types of criticis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iticism of your innovation because it contradicts people’s opinions of the status qu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iticism of your personality and integrity. This occurs becau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difficult to dislike a person for one reason but like them for another reason. We tend to like (or dislike) a person in their entir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r being “unreasonable” will make some people dislike you for one reason, and therefore assume you are uniformly dislike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Unjust criticisms may take different 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71240" y="66600"/>
            <a:ext cx="82119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riticisms may come in the form of accus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va Colli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 a teacher in a school in Ame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r innovative teaching style worked very well with her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 was unable to convince other school staff of the benefits of her innovations. So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 converted half of her house into a small school and taught t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 encountered a criticism: “You are experimenting on the students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ccusation was true: s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a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imenting to improve her teaching techniques. And the experiments w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er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cess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ccusation had some hidden assumptions that were 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7-08T22:46:31Z</dcterms:modified>
  <cp:revision>1132</cp:revision>
  <dc:subject/>
  <dc:title>Criticism and Rejection</dc:title>
</cp:coreProperties>
</file>