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ing the Bell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646494A-0ADC-4CF1-8160-B6FC7213A2A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0358A31E-F6B7-4B29-9884-6E5F35E28D0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hifting the Bell Cur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03120" y="66600"/>
            <a:ext cx="4887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ifting the labels to the le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we shift the labels of the bell curve towards the lef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0640" y="2965320"/>
            <a:ext cx="8129520" cy="343548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6394320"/>
            <a:ext cx="815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83000" y="2557440"/>
            <a:ext cx="92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1670040"/>
            <a:ext cx="1828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unvoiced anti-X thou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1673280"/>
            <a:ext cx="1524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anti-X com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44560" y="3651120"/>
            <a:ext cx="92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433692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2664000"/>
            <a:ext cx="914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 abuse of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390060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4738680"/>
            <a:ext cx="990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4870440"/>
            <a:ext cx="2286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4191120"/>
            <a:ext cx="2286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281304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220356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562720" y="2432160"/>
            <a:ext cx="7617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172200" y="3422520"/>
            <a:ext cx="8380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934320" y="4413240"/>
            <a:ext cx="457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772040" y="5251320"/>
            <a:ext cx="3049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895120" y="1371600"/>
            <a:ext cx="3581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00120" y="66600"/>
            <a:ext cx="6075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ifting the labels to the left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 we end up with a more intolerant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0640" y="2965320"/>
            <a:ext cx="8129520" cy="343548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6394320"/>
            <a:ext cx="815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886200"/>
            <a:ext cx="92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308320"/>
            <a:ext cx="1828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unvoiced anti-X thou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1450800"/>
            <a:ext cx="1524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anti-X com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4343400"/>
            <a:ext cx="92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1679400"/>
            <a:ext cx="914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 abuse of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89548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4746600"/>
            <a:ext cx="160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4870440"/>
            <a:ext cx="2286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4191120"/>
            <a:ext cx="2286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281304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220356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562720" y="2432160"/>
            <a:ext cx="7617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172200" y="3422520"/>
            <a:ext cx="8380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934320" y="4413240"/>
            <a:ext cx="457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772040" y="5251320"/>
            <a:ext cx="3049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898880"/>
            <a:ext cx="914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410080"/>
            <a:ext cx="763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3886200"/>
            <a:ext cx="990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41440" y="66600"/>
            <a:ext cx="4415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 bell-curve shif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viously, shifting the labels to the right would produce a more tolerant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shift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crea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tole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e of Nazism in 1930s Germany resulted in more intolerance of J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ulminated in the holocaust during World Wa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shift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ecreas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ole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 used to have black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slaves were freed, but there was widespread se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-rights activism ended the segregation in the 196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cism is still widespread but America today is much less intolerant of blacks than it was 50, 100, or 200 years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ift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p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y can take years, decades or even centuries to be notice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11120" y="66600"/>
            <a:ext cx="4668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ww.withoutsanctuary.or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ebsite has photographs of lynchings in the U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1870 up to 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ebsite 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80 photographs of lync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5-minute flash video of the photographs with comme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orum for leaving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comments in the forum fall into two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on’t see how the historical lynching photographs relate t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rn-day US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ell curve model might help such people see the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ost shocking part is not the dead black people but the faces of the white spectato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23960" y="66600"/>
            <a:ext cx="5856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ww.withoutsanctuary.org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hotographs emphasize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xt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 bell-curve 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photographs contain identifiable faces of white spect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, there was no fear of being prosecuted for taking part in a lyn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some photographs, children ar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arently, a lynching was considered family entertai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hotographs include the names of the photogra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umably they hoped to get repeat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photographs were sold as post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, a niche consumer market exi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nts on some postcards indicated pride at being 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hotographs show large groups attending lync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stimated 15,000 people attended one lyn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ntries can increase or decrease their level of intol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reasing intolerance: Anti-black racism in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intolerance: Anti-Semitism in 1930s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s in intolerance levels occur slow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take years, decades or even lo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cting to see changes immediately leads to frustration and burn-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look for improvement milestones every few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08:19:31Z</dcterms:modified>
  <cp:revision>1286</cp:revision>
  <dc:subject/>
  <dc:title>Shifting the Bell Curve</dc:title>
</cp:coreProperties>
</file>