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EB8DE31-028C-48E1-BCB9-F3CEC3EB57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5EF2FC0-2C7F-4905-80DC-1021E2D91A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nciple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7080" y="66600"/>
            <a:ext cx="457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forg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iveness is important for several reas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some anti-X extremists to rethink their anti-X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ases the apathetic majority’s fear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voids future generations of X people holding a grudge against non-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ancestors oppressed my ancestors so I hate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mportance of self-re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82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is required for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self-restraint required for Satyagraha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rrested then obey all the rules while in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tyagraha protest will fail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stors defend themselves against att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n the protect looks like a riot and this will not get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wise, resisting arrest or being a bad prisoner loses you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6840" y="66600"/>
            <a:ext cx="372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 King organized training for prote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28 (“Chicago Campaign”)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]e had trained a group of about two thousand disciplined devotees of nonviolence who were willing to take blows without retalia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his autobiography does not describe the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dow’s autobiography briefly mentions the use of role play-based training at the end of the Montgomery bus boy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 (“Don’t you get weary”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Life with Martin Luther King, J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retta Scott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66600"/>
            <a:ext cx="69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ing self-restraint in your daily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took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felt people should practice self-restrai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of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he advo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bacy, eating a bland diet, abstinence from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nual labour and living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esty and living fully in accord with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ligions associate self-restraint with spiritual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t was natural for Gandhi to think all forms of self-restraint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self-restraint is a transferable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then practising self-restraint in your daily life will provide you with the self-restraint required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is unlikely that you need to practise self-restraint in every aspect of your life to have sufficient self-restraint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400" y="66600"/>
            <a:ext cx="714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elf-restraint fails then stop the pro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Murder”) in Part Two of Louis Fischer’s biography of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 Satyagraha-based campaign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some Indians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immediately stopped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scalculation, Gandhi explained, was in overlooking the fact that a person must be trained in civil obedience before civil disobedience against some laws could succe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6 (“Drama at the Seashore”) in Part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nother Satyagraha-based campaign, this time to protest the British monopoly on making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rs used mass arrests and violence against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s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violence. “Because they treasured the movement Gandhi had conjured into being, and lest he cancel it, they abstained from for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sist the urge to destroy you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11240" y="66600"/>
            <a:ext cx="710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the urge to destroy your oppon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iliate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rejects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ing, humiliating and destroying are forms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in a gentle manner creates newsworthy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 turn cause the apathetic majority to apply peer pressure on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992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hapter 15 (“The Victory”) of “The Life of Mahatma Gandhi” by Louis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fighting against  anti-Indian oppression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rganizing a massive protest march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white employees of all railways went on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postponed the march until the strike wa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not want to “destroy, hurt, humble or embitter the adversary, or to win a victory by weakening hi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ympathy for the plight of his oppo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impressed the apathetic majority and increased thei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more pressure on the government to negotiate rather than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benefit of avoiding 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had another reason for not destroying his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nted the oppressor and oppressed to becom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ppressors powerless to oppress you anymor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haps by killing them or putting them in p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urn your oppressors into friends so they do not want to oppress you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mportance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520" y="66600"/>
            <a:ext cx="763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 of Satyagra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bat the anti-X extremist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in the support of the apathetic majority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se peer pressure to stop the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support of the apathetic majority, you need to arouse their sympathy enough so they apply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events (protests, strikes, a trial…) that exposes the injustice and requires sympathy and action to rectify the in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is “sympathy and peer pressure required” to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66600"/>
            <a:ext cx="882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causes of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ing without communicating “sympathy and peer pressure requi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at message, bu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autobiography provides an example of the l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0 (“That Wonderful Spectacle!”) in Part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recruited Indians to fight for England in the First World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ectation was that after the war, England would give Indians more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war, many civil liberties were suspended for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war, England decid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civil lib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did not seem to realize why 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als to the English rul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arnestly pleaded with the Viceroy. I addressed him private letters as also public letters […] But it was all in v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" y="66600"/>
            <a:ext cx="882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“The Autobiography of Martin Luther King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hat King wrote about Gandhi’s teac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: look up “Gandhi” in the index to obtain pag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understood the importance of love in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e does not mention anything about the importance of using widespread communication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The Violence of Desperate Men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rganized a peaceful boycott of segregated buses in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boycotters met with representatives of the bus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aively thought the bus company would give in once they understand the viewpoint of the boyco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d believed that the privileged would give up their privileges on request. This experience, however, taught me a lesson. I came to see that no one gives up his privileges without strong resist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4000" y="66600"/>
            <a:ext cx="722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audience for your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udience that can apply peer pressure on the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this is the general 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for a large-scal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the right audience might be more se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company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a relevant professional trad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individual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dividual’s friends or extende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non-X person who is near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440" y="66600"/>
            <a:ext cx="840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rom Gandhi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9 (“More Hardships”) of Part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travelling by a horse-drawn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t beside the driver (was not allowed to sit inside with passen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of the coach sat with the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the leader wanted to sit beside the driver to smoke a ciga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refused the leader’s instruction to move to the foo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started beating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cries got the passengers to put peer pressure on the leader to stop the b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bought a first-class ticket for a train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cket inspector ordered him to move to the third-class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glish passenger in the carriage put peer pressure on the inspector to allow Gandhi to stay in firs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004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mmunicate a large-scale pro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traditional media (TV, radio, pap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non-traditional media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protest on a website or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deo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werPoint presentation and put it on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ter-wri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tactic employed by Amnesty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4440" y="66600"/>
            <a:ext cx="609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ng with the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informed his opponents about upcoming Satyagraha-base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enefi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oi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 of surpr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warning your opponent of your actions is un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can also communicate the forewarning to the media to increase the newsworthiness of you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takenly think a peaceful protest is a 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voi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ent reaction of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ave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iberately cho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pond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the campaign more newsworthy, leading to more peer pressure from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Using Satyagraha when oppress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960" y="66600"/>
            <a:ext cx="763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p: how Gandhi fac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present cases in the Supreme Cour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make him the first non-white person to have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9360" y="66600"/>
            <a:ext cx="783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gay but in the clo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ets a job working with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a valued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he comes out; and is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course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sues his former employer for unfair dismi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, this gets a tiny mention in a news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red wins the court case, a huge compensation payment might hurt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decides to use Satyagraha-based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ways behav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ely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unicates the job discrimination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ther organizations put peer pressure o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lets the company (and public) know he wants his job back rather than to sue fo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does not work then Fred takes the case to cou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wins, 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onditio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jects compensation and asks for his job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’s unexpected generosity generates widespread news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not harmed by a huge compensation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impressed by Fred by not suing for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uts peer pressure on the company to end its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gets his job back, colleagues are likely to treat hi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does not get his job back, his display of integrity increases his chances of getting other job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you can think of many reasons why Satyagraha might fail in the job discrimin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a few reasons why it might succ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usual nature of a Satyagraha-based action is news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job discrimin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sworthiness raises awarenes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lps to cre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f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provides an insight into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ight provides us with more options for tackling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ret of  success is sincerity. Once you can fake that you’ve got it mad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Giraudoux, French diplomat, dramatist, &amp; novelist (18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not fake Satyagraha and hope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has too many subtleties for an insincere person to fake it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has discussed some of those subtl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exer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ife of Mahatma Gandh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ndh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1982 movie, directed by Richard Attenborough and starring Ben King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rtin Luther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696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rpos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as mentioned earlier in thi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Insights into Satya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earlier chapter, you learn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is the technique Gandhi used to figh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made Gandhi one of the most effective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explained Satyagraha in spiritu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any people find his explanation difficult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-curve model explains Satyagraha’s effectiveness more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he principles of Satyagraha in dep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subtleties you should understand before attempting to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2760" y="66600"/>
            <a:ext cx="579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bell-curve model’s in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respon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-curve model explains why the technique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s political peer pressure on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66600"/>
            <a:ext cx="750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importance of mass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0000" y="66600"/>
            <a:ext cx="42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uctur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is split into many sections. Each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es on one aspect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s some subtle, but important, principles about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mportance of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70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non-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 is an important ingredien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atyagraha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non-violence and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short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symmetrical confli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oppression versus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ewsworthy, so it is likely to be reported widely by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ns the sympathy and support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eases the apathetic majority’s fear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longer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future generations of non-X people being hostile towards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Your ancestors killed my ancestors so I hate you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8:17Z</dcterms:modified>
  <cp:revision>1308</cp:revision>
  <dc:subject/>
  <dc:title>Principles of Satyagraha</dc:title>
</cp:coreProperties>
</file>