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ctical Aspect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BBADF45-4FD1-4C4C-94D8-4DCE931603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6E24721-B86E-406E-A69D-E180C87317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actical Aspects of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0320" y="66600"/>
            <a:ext cx="7122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Gandhi tackl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applied for a license to work in the South African Suprem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on-white person had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Gandhi obtained his licen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win was well publicised so it set a precedent for nation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480" y="66600"/>
            <a:ext cx="6927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King secured black voting r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states in the US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racist bureaucracy made it almost impossible for black people to register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asked the US president to introduce a bill to tack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ident said that public and political opinion would defeat such a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organized Satyagraha-based protests in S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ma had racist bureaucracy to hinder black voter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lanned, peaceful protestors were met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wide media reported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the apathetic majority applied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was able to introduce a bill for black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elapsed time: 5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atyagraha campaign is not a one-day protest. It can last for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tal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 communication (for peer press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discipline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aign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sible, make it an economic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uccessfu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aign can ha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44720" y="66600"/>
            <a:ext cx="1585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nesty International (www.amnesty.org) uses Satyagraha tac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mpaigns only for people who have not u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national letter-writing campaign is used 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writers instructed to be polite and respec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s can last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 analyse the tactics of other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ose tactics compatible with Satyagra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those organizations be more effective if they embraced Satyagra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vious chapter explained the main principle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lores some practical aspect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0000" y="66600"/>
            <a:ext cx="6786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period for a Satyagraha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atyagraha campaigns run for a lo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nderstand why, imagine Fred is a member of the apathetic maj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sees “Police use violence against peaceful protesters” 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he thinks “That’s not right. But there’s nothing I can d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Fred sees the similar headlin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eated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many weeks then he grows un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nly at this point that 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ar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headlines continue, he slowly increases th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biographies of Gandhi or Martin Luther King Jr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ampaigns usually last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’s Montgomery bus boycott lasted 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27040" y="66600"/>
            <a:ext cx="265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quired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kills are vitally important for a Satyagraha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skills (typically media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his to gener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for the peaceful protes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ust ensure no violence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ch protestors about the Bell Curve of Intolerance model so they underst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raining from violence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protestors sing peaceful songs (such as hymns) to dissipate their 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stor (or any person who could be mistaken for one) uses violence then immediately stop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Gandhi and King applied this tactic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 the media will report the 1% of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2600" y="66600"/>
            <a:ext cx="568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 of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run a Satyagraha campaign against anti-X oppression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campaign again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ture of the oppression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qual pay for X and non-X employees in a specific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y, such as buses, restaurants or toi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a particular service to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this focussed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kes it easier for the apathetic majority to understand the issue and sympathise enough 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for one issue makes it easier to achieve success for other issues later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opponents will think “They caused disruption for 6 months for that first issue. We don’t want to go though that trouble ag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4480" y="66600"/>
            <a:ext cx="686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 of oppress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necdote is from: Chapter 16 (“The Albany Movement”)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rights protestors in Albany ran simultaneous campaigns again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imination in public places (libraries and p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s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free speech and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’s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istake I made there was to protest against segregation generally rather than against a single and distinct facet of it. Our protest was so vague that we got nothing, and the people were left very depressed and in despai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920" y="66600"/>
            <a:ext cx="848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economic power instead of political p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atyagraha campaign can be more effective if it is aimed 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conomic 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oppressors rather th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litical pow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of targeting political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ressed X people may not have enough votes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do, elections occur only once every, say, 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targeting econo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oppressed X people are customers of their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ycotting an oppressor’s busin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quick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ffects its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ddition, economic problems quickly get the attention of poli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’s analysis of the Albany mov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ttacked the political power structure instead of the economic power structure. You don’t win against a political power structure where you don’t have the vot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3320" y="66600"/>
            <a:ext cx="474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nationally, act lo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iz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campaign can genera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 cove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, a local win can affect nation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ere two examples of this in earlier chap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examples are repeated on the following slides for ease of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28:47Z</dcterms:modified>
  <cp:revision>1278</cp:revision>
  <dc:subject/>
  <dc:title>Practical Aspects of Satyagraha</dc:title>
</cp:coreProperties>
</file>