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l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A35876A-A0D2-472B-B7D6-E04C95DBFE2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B852D15-1674-443C-B495-017B97EAB0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ernalized Oppre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27200" y="66600"/>
            <a:ext cx="4037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nation of begrudg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Irish people say Ireland is “a nation of begrudge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begrudge = to envy or resent the good fortune of somebody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ther countries also have a begrudgery stereotype of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quote from the bible suggests begrudgery is not restricted to modern socie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phet is not without honour, except in his own country”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rk 6: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haps begrudgery is a symptom of internalized op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people are inferior and don’t deserve success. Therefore, that X person should stop being successful and get back into his or her pla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Recipe for creating internalized o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1520" y="66600"/>
            <a:ext cx="6569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gredients of internalized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ingredient of internalized oppression is obvi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requently repeated insul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group. 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ogatory stere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lavery or se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ws that discriminate against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, another, less obvious ingredient is also impor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ack of positive imag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the group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cluding the group’s history, culture, and role mod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an be achieved through censorship of the school curriculum and reported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750840" y="66600"/>
            <a:ext cx="1584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ck people in the USA were taught they were inf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slavery, segregation laws and socially-condoned lync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of these as be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requently repeated (extreme) insul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ack of positive imag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s achieved through censo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tory in school focussed on white Americans and white Europ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tion of African history despite its impressive ancient achievements in metalworking, science, mathematics, architecture, philosophy, art and emp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Chapter 1 (“The Seat of the Trouble”)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Mis-education of the Neg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Carter Woodson, 19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hought of the inferiority of the Negro is drilled into him in almost every class he enters and in almost every book he studi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47840" y="66600"/>
            <a:ext cx="2772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Autobiography of Malcolm X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mentions the lack of information about black people in American history boo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Chapter 2 (“Mascot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came to the textbook section on Negro history. It was exactly one paragraph long. [The teacher] laughed through it practically in a single breath, reading aloud how the Negroes had been slaves and then were freed, and how they were usually lazy and dumb and shiftles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ensored, anti-black history was taught to all stud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te people we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augh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hate black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we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augh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hate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1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Mis-education of the Neg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ping such bigoted teaching “is much more important than the anti-lynching movement, because there would be no lynching if it did not start in the schoolroo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08280" y="66600"/>
            <a:ext cx="5481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from Nelson Mande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quotes are from Nelson Mandela’s autobiography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ng Walk to Freed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 not yet know that the real history of our country was not to be found in standard British textbooks, which claimed South Africa began […] in 1652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ere tau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eliev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the best ideas were English ideas, the best government was English government, and the best men were English me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overnment subsequently passed a law that made it an offence punishable by fine or imprisonment to offer unauthorized educa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43040" y="66600"/>
            <a:ext cx="5818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despread historical censorsh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nsorship of black history is not 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ny countries, history taught in school censors or disparages the role of minorities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aces or reli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men (a 51% mino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heterosex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ith dis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the history education you received in scho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you taught about historical figures of minority group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ecipe for stopping internalized o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3720" y="66600"/>
            <a:ext cx="7558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ipe for stopping internalized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cipe for stopping internalized oppression is the opposite of the recipe for creating internalized o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cipe has two ingredi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he anti-X in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nd promote positive images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ingredient is the most obvi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second ingredient is equally important and is often underapprec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few slides suggest some categories of positive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5160" y="66600"/>
            <a:ext cx="4827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images of X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ter Woodson (author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Mis-education of the Neg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ed Negro History Week (now known as Black History Mon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has inspired other oppressed groups to do like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there is a Gay History Week/Month in s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know of other “X” History week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e models and heroes for X people are important.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2 (“Mascot”)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Autobiography of Malcolm 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e Louis knocked out James J. Braddock to become the heavyweight champion of the world. And all the Negroes in Lansing, like Negroes everywhere, went wildly happy wit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reatest celebration of race pride our generation had ever know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you think of comparable people or events for other group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ks, movies and TV shows featuring X characters portrayed in a posit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31440" y="66600"/>
            <a:ext cx="6015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images of X peopl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graphies of X people who achieved great th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ors and scient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ho challenged anti-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ical leader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 businesses run by X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X commun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se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s of X culture that can be exported into mainstream culture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, art,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ce Lee popularised Chinese martial arts in other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c stories about X people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o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lex Haley (book and two TV mini-se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a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Nechama Tec (book and mov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5680" y="66600"/>
            <a:ext cx="6014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images of X peopl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ing the anti-X insults is often outside the control of X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is within the power of X peop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nd bring to ligh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is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images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images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quantity of positive images of X people gr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ed oppression will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equency of anti-X insults from non-X people will also decrea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lbeit at a slower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chools for oppresse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9440" y="66600"/>
            <a:ext cx="5283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s for oppressed grou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ppressed groups create their own sch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black people and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actice can be controversial. 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ere white-only and black-only schools during segregation in America and apartheid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that schools are integrated, why would black people want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-integrate the schools again? Isn’t that just segreg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22280" y="66600"/>
            <a:ext cx="6470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s for oppressed group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important reason for such sch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segregation, a racist curriculum was taught in black-only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after segregation ended, integrated schools still have a racist bias in the 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history textbooks are still white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ool run by black people can create a black-inclusiv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internalized racism can be eradicated more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ed for black schools will disappea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ism finally disappears from integrated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ized oppression causes X peop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e themselves (as individu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e X people (as a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ymptoms of internalized op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people do not support X businesses, and so ensure continued poverty of the X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fighting over the limited X resources instead of cooperating to increase the quantity of X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begrud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e for internalized oppression has two ingredi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t anti-X in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sor positive images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 by creating &amp; promoting positive images of X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assume Fred is insulted frequ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ugly/stupid/untrustworthy/incompetent/sick/perverted/evil/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h verbal abuse might come from parents, a partner, a bully at school or work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ually, Fred might start to believe the in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a result, Fred might develop some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confidence and low self-est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happens when a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tire group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nsulted frequen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sult is often cal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ernalized oppress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internalized racism, internalized classism, internalized sexism, internalized homophobia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Symptoms of internalized o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20840" y="66600"/>
            <a:ext cx="6469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ymptoms of internalized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assu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belong to an oppressed group,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lots of negative stereotypes about X peo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tupid, dirty, incompetent, criminal, immoral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you repeatedly hear the negative stereo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come to believe them about yourself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ppressed groups often have high rates of mental health probl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come to believe the stereotypes abou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 people in gener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next few slides provide examples of problems this cre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95440" y="66600"/>
            <a:ext cx="611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 of internalized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Chapter 15 (“Vocational Guidance”)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Mis-education of the Neg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Carter Woodson, 19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white-owned chain store was asked to put a black manager in charge of one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urvey was carried out to find how black people felt about this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hundred thirty-seven Negro families in that neighbourhood seriously objected to buying from Negroes and using articles handled by the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uthor explains this was due to internalized op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had internalized racist stereotypes, includ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are “dir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body wants to buy from a shop staffed with “dirty”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8520" y="66600"/>
            <a:ext cx="7599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conomic effects of internalized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want to have (more) mon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, they settle for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ppeara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having more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buy items that give the impression they are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ger houses, bigger cars, bigger TVs, designer clothe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eople buy such things on credit, thus making them po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, if X people think “X is inferior to non-X”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ight eat and buy items associated with non-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ight prefer to shop at non-X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-owned businesses suffer (thus keeping the X community po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-related culture struggles to surv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8280" y="66600"/>
            <a:ext cx="6569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alized oppression is widespr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ang terms for people suffering from internalized rac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eo (a black cookie with a white fi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conut (brown on the outside, white on the ins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ty bar (a chocolate bar with a coconut fi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slang terms illustrate that internalized op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common around the worl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ose slang terms are used in England, South Africa and the U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serious enough to warrant a label that means “traitor to your own ra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figh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oppressed group has a limited amount of “safe”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s of worship, community centres, pubs/discos, cafes, restau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lized oppression may make members of the group thi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competent, therefore w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not crea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tional resourc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ferior, therefore we do no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ser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tional resourc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an cause in-fighting within the oppressed grou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compete to control the existing limit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ould be better if they cooperated to create new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0:36:17Z</dcterms:modified>
  <cp:revision>1161</cp:revision>
  <dc:subject/>
  <dc:title>Tactics of Oppression</dc:title>
</cp:coreProperties>
</file>