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s for Activist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3074149-C264-4FF3-8F8F-D3FBC1C745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9F33200-2DA1-4D6B-AEA4-0ADC48A642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s for Activis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“Black Like M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2520" y="66600"/>
            <a:ext cx="459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ack Like 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59, John Howard Griffin, a white author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pills, a sun lamp and skin dye to darken hi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d as a black man for 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d racism in ways that most white people never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he reported his experience in magazine articles and TV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received death threats for the rest of 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61 he published a book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bout hi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old 10 million copies and was translated into many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quired reading in many schools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describe the book as “life chang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71400" y="66600"/>
            <a:ext cx="241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ore effective for raising awareness of rac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utobiography, spanning decades, written by a black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autobiography written by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the 4-week autobiography is arguably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racism in many white people means they will trust a white author more to provide non-biased information about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unfortunate but tru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kes advantag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readers might suspect a book spanning decades is cherry picking the racist incidents it reports to make racism seem worse than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book, written in diary format, clearly shows the frequency of racist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4-week autobiography provides some marketing 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ness of a 4-week autobiography is appealing to casual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3080" y="66600"/>
            <a:ext cx="360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one other reason 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“bette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body who is an expert in a particular topic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information is obvious and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e same information provides great insight for non-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a black author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aspects of racism are obvious and not worth discu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at such a discussion would be insightful for white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ffin, disguised as a black man, was able to identify and report on some of these often overlooked aspects of ra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240" y="66600"/>
            <a:ext cx="455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ctics used to wri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man in the USA could repeat Griffin’s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how changing levels of racism over a 50-yea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person could keep a 4-week diary of racism experienced and publish it as an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the 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4-week diary format could highlight the frequency of racist experiences better than a multi-decade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ristian could pretend to be, say, Muslim for a few weeks and write a book on the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west of the 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Gunter Wallraff and M. Chalmers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tyle experiment to highlight racism faced by Turk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9680" y="66600"/>
            <a:ext cx="573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would like to fight anti-X intolerance but do not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one example of how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you undertake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nsure you have goo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alable Communica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for advice on improving your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23Z</dcterms:modified>
  <cp:revision>1113</cp:revision>
  <dc:subject/>
  <dc:title>Lessons for Activists in Black Like Me</dc:title>
</cp:coreProperties>
</file>