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71662F7-9CA0-41CC-8FFD-ABB6E9DF11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92D0A14-1A04-4044-916A-054A3D897E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feelings of superiority to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 feelings of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66600"/>
            <a:ext cx="5640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adicating a sense of inferi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use numbers to indicate levels of self-e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w self-esteem (“I am inf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ealthy level of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ly high self-esteem (“I am sup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ression can cause oppressed people to have l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f-esteem, let’s say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a good way to get their self esteem back up to z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ay is to reclaim history, culture and role models to say “We are just as good as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ly, your self esteem will rise back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oppression might keep dragging your self-esteem back below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9684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lternative tact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laim history, culture and role models to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W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im is to bring self-esteem t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, for example, 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cancel out the negative self-esteem created by oppression to leave your overall self-esteem at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actic may seem appealing, but it can be danger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will overcompensate and end up with a self-esteem of, for example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tactic works perfectly, external supporters might be alienated if they hear the “we are better than other people”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monising your op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0040" y="66600"/>
            <a:ext cx="7578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emptation to demonise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oppress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st 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 (who are not oppressors)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people are upset and frust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non-oppressors who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empting for an X-rights activist to demonise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taps into the frustrations and anger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 effective way to build up support among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8200" y="66600"/>
            <a:ext cx="728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anger of demonising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ising non-X people is likely to scare non-X peopl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hite, how would you feel hearing the Nation of Islam’s claim that white people ar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ell off, how would you feel about lots of poorer people shouting “Capitalist bastard” a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ly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will feel more justified in their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on-oppressors may, as a form of self-defence, becom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on-X people outnumber X people then riots or attempts at an “non-X versus X war” will probably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9036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actics can be more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ise an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ief rec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spread news coverage of extremist oppressors hurting peaceful protestors wins sympathy of the non-oppressors (the apathetic maj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-longer-apathetic majority will then put peer pressure on the oppressive extremists to end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briefly discussed some dangerous tact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re important but resist the urge to put them on pede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“we are superior to our oppressors” as a tactic to combat feelings of infe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demonise you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tactics for fighting oppression are equall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tactics that are used sometimes but ar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utting role models on pedes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1440" y="66600"/>
            <a:ext cx="5718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ting role models on pedes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for an oppressed group to have positive role models to counteract negative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is a dan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 models tend to be placed on pedestals and ido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olised role models tend to be hated if fans discover their feet of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destal is as much a prison as any small, confined place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ria St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feet of clay” does not even have to be a character 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y way in which the role model does not meet the unrealistic and confining expectation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98680" y="66600"/>
            <a:ext cx="4292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Tom Robin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was a popular and openly gay singer in the late 1970s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on, much to his surprise, he fell in love with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gay people felt betrayed by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answered his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1 years now I've fought for the righ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people to love just whoever they lik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right-on and righteous are out for my bloo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I live with my kid and a woman I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if gay liberation means freedom for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abel is no liberation at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'm here and I'm queer and I do what I d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'm not gonna wear… a straitjacke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6000" y="66600"/>
            <a:ext cx="397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i diFran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nger Ani diFranco was frustrated at being put on a feminist ped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responded to her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alk about my im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I come in two dimens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lipstick is a sign of my declining m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what I happen to be wear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ay that someone takes a pi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y new statement for all of womank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hey could see us no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leather bras and rubber shor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some ridiculous new team unifo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 ridiculous new spor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ick someone call the girl pol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il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2040" y="66600"/>
            <a:ext cx="597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: Bob Geldof and 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organising Band Aid to raise money for famine rel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K media gave Bob Geldof the nickname “Saint Bo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to his disgust, some people wanted to touch him because they thought he was h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rote about this in hi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lled i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d syndr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quoted a fictional character from a short story at the start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mind being reverenced, greeted and honoured,’ said Vespaluus, ‘I don’t even mind being sainted in moderation, as long as I’m not expected to be saintly as well.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ory of St. Vespalu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y S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was horrified whenever people treated him as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27360" y="66600"/>
            <a:ext cx="182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o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proud of people who make great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resist putting them on a pedes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finement frustrat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ill feel hurt when they do not live up to you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52:04Z</dcterms:modified>
  <cp:revision>1164</cp:revision>
  <dc:subject/>
  <dc:title>Obsession</dc:title>
</cp:coreProperties>
</file>