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480" y="6448320"/>
            <a:ext cx="566748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Underappreciated Tactics for Fighting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D11588D0-A5C0-4753-B907-EA2815DDBE40}"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03BF63B5-0327-4969-92FA-B9B2D66512F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Underappreciated Tactics for</a:t>
            </a:r>
            <a:br>
              <a:rPr sz="3600"/>
            </a:br>
            <a:r>
              <a:rPr b="1" lang="en-GB" sz="3600" spc="-1" strike="noStrike">
                <a:solidFill>
                  <a:srgbClr val="000000"/>
                </a:solidFill>
                <a:latin typeface="Arial"/>
              </a:rPr>
              <a:t>Fighting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02000" y="66600"/>
            <a:ext cx="2279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local social group might have less than 20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contrast, an annual (inter)national conference might have hundreds or thousands of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arger size of a conference means its benefits are magnif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ing so many “people like me” in one place can b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shops and merchandise stalls can promote the community’s history, values and role mode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ix of “social” and “activist” workshops provides interesting var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ntertainments provided by community members provide a source of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0476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 (cont’)</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from the </a:t>
            </a:r>
            <a:r>
              <a:rPr b="0" i="1" lang="en-GB" sz="2400" spc="-1" strike="noStrike">
                <a:solidFill>
                  <a:srgbClr val="000000"/>
                </a:solidFill>
                <a:latin typeface="Arial"/>
              </a:rPr>
              <a:t>Clusters, Families and Partners </a:t>
            </a:r>
            <a:r>
              <a:rPr b="0" lang="en-GB" sz="2400" spc="-1" strike="noStrike">
                <a:solidFill>
                  <a:srgbClr val="000000"/>
                </a:solidFill>
                <a:latin typeface="Arial"/>
              </a:rPr>
              <a:t>chap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asionally, interactions between people with common interests produce sy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nual conference provides opportunities for syner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conference, by itself, can be enjoyable, informativ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networking and collaborations </a:t>
            </a:r>
            <a:r>
              <a:rPr b="0" i="1" lang="en-GB" sz="2000" spc="-1" strike="noStrike">
                <a:solidFill>
                  <a:srgbClr val="000000"/>
                </a:solidFill>
                <a:latin typeface="Arial"/>
              </a:rPr>
              <a:t>resulting </a:t>
            </a:r>
            <a:r>
              <a:rPr b="0" lang="en-GB" sz="2000" spc="-1" strike="noStrike">
                <a:solidFill>
                  <a:srgbClr val="000000"/>
                </a:solidFill>
                <a:latin typeface="Arial"/>
              </a:rPr>
              <a:t>from people meeting at the conference can be even more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ferences often suffer from the same underappreciation as social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Fred stops attending an annual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conference is “not as good as it used to b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akes Fred reluctant to recommend the conference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Document a group’s history and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49320" y="66600"/>
            <a:ext cx="726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ocumentation can challenge stereotypes</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rogatory stereotypes exist about every oppressed group.</a:t>
            </a:r>
            <a:br>
              <a:rPr sz="2400"/>
            </a:b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azy, unintelligent, criminals, terrorists, sexually promiscuous, rapists, child molesters, hedonists, viole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stereotypes can be challenged if the oppressed group docu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itive aspects of their own cultu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achievements in science, art, music, movies, sports, business, charity, campaigning for human rights and so 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iographies of their people who lead eventful and interesting liv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hologies of personal accounts about oppression and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09480" y="66600"/>
            <a:ext cx="605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such documentation</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y can help to raise the self esteem and lower internalised oppression of individuals </a:t>
            </a:r>
            <a:r>
              <a:rPr b="0" i="1" lang="en-GB" sz="2400" spc="-1" strike="noStrike">
                <a:solidFill>
                  <a:srgbClr val="000000"/>
                </a:solidFill>
                <a:latin typeface="Arial"/>
              </a:rPr>
              <a:t>within </a:t>
            </a:r>
            <a:r>
              <a:rPr b="0" lang="en-GB" sz="2400" spc="-1" strike="noStrike">
                <a:solidFill>
                  <a:srgbClr val="000000"/>
                </a:solidFill>
                <a:latin typeface="Arial"/>
              </a:rPr>
              <a:t>the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ocumentation of recent history (last 10 or 20 years) can show progress in reducing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be a morale boost to activists who do not see progress on a week-by-week basi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historians often fail to document the history of oppressed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64920" y="66600"/>
            <a:ext cx="5978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bstacles for such documenta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y are rarely read by people </a:t>
            </a:r>
            <a:r>
              <a:rPr b="0" i="1" lang="en-US" sz="2400" spc="-1" strike="noStrike">
                <a:solidFill>
                  <a:srgbClr val="000000"/>
                </a:solidFill>
                <a:latin typeface="Arial"/>
              </a:rPr>
              <a:t>outside</a:t>
            </a:r>
            <a:r>
              <a:rPr b="0" lang="en-US" sz="2400" spc="-1" strike="noStrike">
                <a:solidFill>
                  <a:srgbClr val="000000"/>
                </a:solidFill>
                <a:latin typeface="Arial"/>
              </a:rPr>
              <a:t> the oppressed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are occasional exceptions, such as </a:t>
            </a:r>
            <a:r>
              <a:rPr b="0" i="1" lang="en-US" sz="2000" spc="-1" strike="noStrike">
                <a:solidFill>
                  <a:srgbClr val="000000"/>
                </a:solidFill>
                <a:latin typeface="Arial"/>
              </a:rPr>
              <a:t>Roots </a:t>
            </a:r>
            <a:r>
              <a:rPr b="0" lang="en-US" sz="2000" spc="-1" strike="noStrike">
                <a:solidFill>
                  <a:srgbClr val="000000"/>
                </a:solidFill>
                <a:latin typeface="Arial"/>
              </a:rPr>
              <a:t>by Alex Hal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mited readership mea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y bookshops do not stock “special interest” titles that sell poor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uch books quickly go out of pr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books have to be rewritten for each gener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hologies of personal accounts written recently are more relevant for readers than similar anthologies written 50 years 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6600"/>
            <a:ext cx="698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ercise (to be done outside the cour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books about an oppressed group on Amazon</a:t>
            </a:r>
            <a:br>
              <a:rPr sz="2400"/>
            </a:br>
            <a:r>
              <a:rPr b="0" lang="en-US" sz="2400" spc="-1" strike="noStrike">
                <a:solidFill>
                  <a:srgbClr val="000000"/>
                </a:solidFill>
                <a:latin typeface="Arial"/>
              </a:rPr>
              <a:t>(www.amazon.com)</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stimate how well or badly such books sell</a:t>
            </a:r>
            <a:br>
              <a:rPr sz="2400"/>
            </a:br>
            <a:r>
              <a:rPr b="0" lang="en-US" sz="2400" spc="-1" strike="noStrike">
                <a:solidFill>
                  <a:srgbClr val="000000"/>
                </a:solidFill>
                <a:latin typeface="Arial"/>
              </a:rPr>
              <a:t>(Amazon’s “sales rank”)</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many of these books are “unavailable” (out of print)</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s there any way to keep such books available for future gener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e possible answer is on the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4400" y="66600"/>
            <a:ext cx="6018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ggested solution to the exercise</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eate a website to act as a centralized archive of community-specific biographies, histories and personal accou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ack down the copyright holders of such books that are out of prin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sk them to add HTML and PDF versions of the books to the arch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ourage future authors of such books to do likewise</a:t>
            </a:r>
            <a:br>
              <a:rPr sz="2000"/>
            </a:br>
            <a:r>
              <a:rPr b="0" lang="en-US" sz="2000" spc="-1" strike="noStrike">
                <a:solidFill>
                  <a:srgbClr val="000000"/>
                </a:solidFill>
                <a:latin typeface="Arial"/>
              </a:rPr>
              <a:t>(they will forego insignificant royalties to get a wider readershi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onus 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y </a:t>
            </a:r>
            <a:r>
              <a:rPr b="0" i="1" lang="en-US" sz="2000" spc="-1" strike="noStrike">
                <a:solidFill>
                  <a:srgbClr val="000000"/>
                </a:solidFill>
                <a:latin typeface="Arial"/>
              </a:rPr>
              <a:t>print-on-demand </a:t>
            </a:r>
            <a:r>
              <a:rPr b="0" lang="en-US" sz="2000" spc="-1" strike="noStrike">
                <a:solidFill>
                  <a:srgbClr val="000000"/>
                </a:solidFill>
                <a:latin typeface="Arial"/>
              </a:rPr>
              <a:t>technologies</a:t>
            </a:r>
            <a:br>
              <a:rPr sz="2000"/>
            </a:br>
            <a:r>
              <a:rPr b="0" lang="en-US" sz="2000" spc="-1" strike="noStrike">
                <a:solidFill>
                  <a:srgbClr val="000000"/>
                </a:solidFill>
                <a:latin typeface="Arial"/>
              </a:rPr>
              <a:t>(ability to print and bind a single copy of a book on an as-needed bas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dd a print-on-demand service to the webs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this way, authors and the website can make some money from books that have a limited reader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pand the website so it covers books for </a:t>
            </a:r>
            <a:r>
              <a:rPr b="0" i="1" lang="en-US" sz="2000" spc="-1" strike="noStrike">
                <a:solidFill>
                  <a:srgbClr val="000000"/>
                </a:solidFill>
                <a:latin typeface="Arial"/>
              </a:rPr>
              <a:t>many </a:t>
            </a:r>
            <a:r>
              <a:rPr b="0" lang="en-US" sz="2000" spc="-1" strike="noStrike">
                <a:solidFill>
                  <a:srgbClr val="000000"/>
                </a:solidFill>
                <a:latin typeface="Arial"/>
              </a:rPr>
              <a:t>oppressed groups</a:t>
            </a:r>
            <a:br>
              <a:rPr sz="2000"/>
            </a:br>
            <a:r>
              <a:rPr b="0" lang="en-US" sz="2000" spc="-1" strike="noStrike">
                <a:solidFill>
                  <a:srgbClr val="000000"/>
                </a:solidFill>
                <a:latin typeface="Arial"/>
              </a:rPr>
              <a:t>(this scalability may make it a sustainable busi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End reliance on your oppressor for 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5200" y="66600"/>
            <a:ext cx="7456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nd reliance on your oppressor for funding</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principle to keep in mind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n’t ask your oppressor to fund your revolu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may not be possible to live up to that ide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over time you should try to reduce your reliance on funding from your oppress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accept funding from your oppressor the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engage in self-censorship</a:t>
            </a:r>
            <a:br>
              <a:rPr sz="2000"/>
            </a:br>
            <a:r>
              <a:rPr b="0" lang="en-US" sz="2000" spc="-1" strike="noStrike">
                <a:solidFill>
                  <a:srgbClr val="000000"/>
                </a:solidFill>
                <a:latin typeface="Arial"/>
              </a:rPr>
              <a:t>(otherwise the funding might be cut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deal with extra bureaucracy</a:t>
            </a:r>
            <a:br>
              <a:rPr sz="2000"/>
            </a:br>
            <a:r>
              <a:rPr b="0" lang="en-US" sz="2000" spc="-1" strike="noStrike">
                <a:solidFill>
                  <a:srgbClr val="000000"/>
                </a:solidFill>
                <a:latin typeface="Arial"/>
              </a:rPr>
              <a:t>(to satisfy the funding organization that the money is being spent wel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funding suddenly stops, your organization may not be ab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84400" y="66600"/>
            <a:ext cx="492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Black Like Me</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December 7”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wo black econom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recognized that so long as the Negro had to depend on white banks to finance his projects for improvement and growth, the race was at the mercy of the white ma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lped create two banks in Atlanta financed and run by black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white-owned banks in Atlanta refused to loan money to black people to buy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ly created black-owned banks started to provide such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ithin a few days, the white-owned banks called to say “Don’t take all that business away from us. How about letting us handle a few of those loa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ortan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Just two black banks broke a white-only monopoly on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aused white-owned banks to act less oppress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9720" y="66600"/>
            <a:ext cx="4213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John Hol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US Department of Education announced it would give up to $5million per district to fund innovative schoo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12 (“The Failure of School Reform”) in </a:t>
            </a:r>
            <a:r>
              <a:rPr b="0" i="1" lang="en-US" sz="2000" spc="-1" strike="noStrike">
                <a:solidFill>
                  <a:srgbClr val="000000"/>
                </a:solidFill>
                <a:latin typeface="Arial"/>
              </a:rPr>
              <a:t>Instead of Education </a:t>
            </a:r>
            <a:r>
              <a:rPr b="0" lang="en-US" sz="2000" spc="-1" strike="noStrike">
                <a:solidFill>
                  <a:srgbClr val="000000"/>
                </a:solidFill>
                <a:latin typeface="Arial"/>
              </a:rPr>
              <a:t>by John Hol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ss than 1% of schools who applied for funding received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99% of schools who were denied funding wasted time on the bureaucracy of applying for the fun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hen funding was given, most of the money was used to add extra bureaucracy to coordinate and evaluate the innovatio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innovative schools and teachers, which in their former poverty had at least been left alone to do their work as best they could, now had to spend much of their time explaining and justifying what they were doing. Many of them felt that the federal funding had, if anything, made their work ha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4720" y="66600"/>
            <a:ext cx="575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the Nation of Islam</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teaching of the Nation of Islam (NOI) was that black people should work towards financial independ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NOI members opened their own business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is way, money could stay within their own community,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reducing their financial reliance on whit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not financially supporting their oppress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84280" y="66600"/>
            <a:ext cx="4330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Malcolm X</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example shows that sometimes you can reduce but not eliminate your dependence on oppresso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started a monthly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5 (“The Interview”) of </a:t>
            </a:r>
            <a:r>
              <a:rPr b="0" i="1" lang="en-US" sz="2000" spc="-1" strike="noStrike">
                <a:solidFill>
                  <a:srgbClr val="000000"/>
                </a:solidFill>
                <a:latin typeface="Arial"/>
              </a:rPr>
              <a:t>To Kill a Black Man </a:t>
            </a:r>
            <a:r>
              <a:rPr b="0" lang="en-US" sz="2000" spc="-1" strike="noStrike">
                <a:solidFill>
                  <a:srgbClr val="000000"/>
                </a:solidFill>
                <a:latin typeface="Arial"/>
              </a:rPr>
              <a:t>by Louis Loma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spaper reported stories relevant to the Nation of Islam (NO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could not find writers or editors within the NOI:</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asked Louis Lomax (a black man </a:t>
            </a:r>
            <a:r>
              <a:rPr b="0" i="1" lang="en-US" sz="2000" spc="-1" strike="noStrike">
                <a:solidFill>
                  <a:srgbClr val="000000"/>
                </a:solidFill>
                <a:latin typeface="Arial"/>
              </a:rPr>
              <a:t>not</a:t>
            </a:r>
            <a:r>
              <a:rPr b="0" lang="en-US" sz="2000" spc="-1" strike="noStrike">
                <a:solidFill>
                  <a:srgbClr val="000000"/>
                </a:solidFill>
                <a:latin typeface="Arial"/>
              </a:rPr>
              <a:t> in the NOI) who had the relevant skills to hel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were no black-owned printing companies capable of printing the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used a white-owned printing compan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Ways to cope with stress caused by opp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86000" y="66600"/>
            <a:ext cx="633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excessive kindness of strangers</a:t>
            </a:r>
            <a:endParaRPr b="1" lang="en-US" sz="2800" spc="-1" strike="noStrike">
              <a:solidFill>
                <a:srgbClr val="000000"/>
              </a:solidFill>
              <a:latin typeface="Arial"/>
            </a:endParaRPr>
          </a:p>
        </p:txBody>
      </p:sp>
      <p:sp>
        <p:nvSpPr>
          <p:cNvPr id="13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 many occasions, the author experienced kindness by black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mount of kindness was far greater than he had experienced as a white person among white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concluded that “the world outside was so bad for us that we had to counter it among ourselves by salving one another with kindness”</a:t>
            </a:r>
            <a:br>
              <a:rPr sz="2000"/>
            </a:br>
            <a:r>
              <a:rPr b="0" lang="en-US" sz="2000" spc="-1" strike="noStrike">
                <a:solidFill>
                  <a:srgbClr val="000000"/>
                </a:solidFill>
                <a:latin typeface="Arial"/>
              </a:rPr>
              <a:t>(from the “November 7”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ch “excessive kindness” is common in oppressed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Defiance </a:t>
            </a:r>
            <a:r>
              <a:rPr b="0" lang="en-US" sz="2000" spc="-1" strike="noStrike">
                <a:solidFill>
                  <a:srgbClr val="000000"/>
                </a:solidFill>
                <a:latin typeface="Arial"/>
              </a:rPr>
              <a:t>by Nechama Tec tells the true story of how 3 Jewish brothers in Poland saved over 1200 Jewish people from the Nazi holocau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hapter 13 (“Keeping Order”) of </a:t>
            </a:r>
            <a:r>
              <a:rPr b="0" i="1" lang="en-US" sz="2000" spc="-1" strike="noStrike">
                <a:solidFill>
                  <a:srgbClr val="000000"/>
                </a:solidFill>
                <a:latin typeface="Arial"/>
              </a:rPr>
              <a:t>Defiance </a:t>
            </a:r>
            <a:r>
              <a:rPr b="0" lang="en-US" sz="2000" spc="-1" strike="noStrike">
                <a:solidFill>
                  <a:srgbClr val="000000"/>
                </a:solidFill>
                <a:latin typeface="Arial"/>
              </a:rPr>
              <a:t>st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As outside dangers increased, people became more cooperative. In contrast, as soon as they felt more secure, they became more competitive, more critical, and more disobed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30040" y="66600"/>
            <a:ext cx="504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music to relieve stress</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November 14”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Mississippi a black man had been lynched and the grand jury decided that the white men accused of the crime should not face tri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lack people felt betrayed by this blatant lack of justi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thor travelled to Mississippi to experience life as a black man in such circumstanc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uthor arrived at the black part of the town of Hattiesbur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was loud music everywhere, and he realized white people would think black people were happy, partying and “living jubilant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cognised the music was a way for people to relieve stress caused by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0480" y="66600"/>
            <a:ext cx="4851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ways to relieve stres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 everyone uses music and dancing to relieve st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prefer to work out in a gym, play sports, comedy, ar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resort to alcohol, drugs or cr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rehabilitation programs increase their success rate by having attendees take up a pastime th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elieves stress, whi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ilding self esteem or providing a purpose to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14560" y="66600"/>
            <a:ext cx="5068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gage in a stress-relieving hobb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ailor your hobby so that it helps your community to fight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wr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fictional stories that show oppressed people in a positive ligh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 your community’s culture, history or role model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ribute to a community newspap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play mus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nd play songs relevant to your oppressed commun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musical stage show relevant to your commun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art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aint or sculpt images depicting community pride or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0840" y="66600"/>
            <a:ext cx="625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 (cont’)</a:t>
            </a:r>
            <a:endParaRPr b="1" lang="en-US" sz="2800" spc="-1" strike="noStrike">
              <a:solidFill>
                <a:srgbClr val="000000"/>
              </a:solidFill>
              <a:latin typeface="Arial"/>
            </a:endParaRPr>
          </a:p>
        </p:txBody>
      </p:sp>
      <p:sp>
        <p:nvSpPr>
          <p:cNvPr id="14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spor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 or teach self-defence sports</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using a video camer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 a documentary about your community’s history or culture</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ove to c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vide catering for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cook book of recipes associated with your community</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gardening, knitting, collecting stam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ind </a:t>
            </a:r>
            <a:r>
              <a:rPr b="0" i="1" lang="en-US" sz="2000" spc="-1" strike="noStrike">
                <a:solidFill>
                  <a:srgbClr val="000000"/>
                </a:solidFill>
                <a:latin typeface="Arial"/>
              </a:rPr>
              <a:t>some way </a:t>
            </a:r>
            <a:r>
              <a:rPr b="0" lang="en-US" sz="2000" spc="-1" strike="noStrike">
                <a:solidFill>
                  <a:srgbClr val="000000"/>
                </a:solidFill>
                <a:latin typeface="Arial"/>
              </a:rPr>
              <a:t>for your hobby to help your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on is rarely ended through a </a:t>
            </a:r>
            <a:r>
              <a:rPr b="0" i="1" lang="en-GB" sz="2400" spc="-1" strike="noStrike">
                <a:solidFill>
                  <a:srgbClr val="000000"/>
                </a:solidFill>
                <a:latin typeface="Arial"/>
              </a:rPr>
              <a:t>single</a:t>
            </a:r>
            <a:r>
              <a:rPr b="0" lang="en-GB" sz="2400" spc="-1" strike="noStrike">
                <a:solidFill>
                  <a:srgbClr val="000000"/>
                </a:solidFill>
                <a:latin typeface="Arial"/>
              </a:rPr>
              <a:t>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uccess is more likely with a </a:t>
            </a:r>
            <a:r>
              <a:rPr b="0" i="1" lang="en-GB" sz="2000" spc="-1" strike="noStrike">
                <a:solidFill>
                  <a:srgbClr val="000000"/>
                </a:solidFill>
                <a:latin typeface="Arial"/>
              </a:rPr>
              <a:t>combination </a:t>
            </a:r>
            <a:r>
              <a:rPr b="0" lang="en-GB" sz="2000" spc="-1" strike="noStrike">
                <a:solidFill>
                  <a:srgbClr val="000000"/>
                </a:solidFill>
                <a:latin typeface="Arial"/>
              </a:rPr>
              <a:t>of tac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actics can form an equation for change</a:t>
            </a:r>
            <a:br>
              <a:rPr sz="2000"/>
            </a:br>
            <a:r>
              <a:rPr b="0" lang="en-GB" sz="2000" spc="-1" strike="noStrike">
                <a:solidFill>
                  <a:srgbClr val="000000"/>
                </a:solidFill>
                <a:latin typeface="Arial"/>
              </a:rPr>
              <a:t>(A + B + C = end of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call that </a:t>
            </a:r>
            <a:r>
              <a:rPr b="0" i="1" lang="en-GB" sz="2000" spc="-1" strike="noStrike">
                <a:solidFill>
                  <a:srgbClr val="000000"/>
                </a:solidFill>
                <a:latin typeface="Arial"/>
              </a:rPr>
              <a:t>Equations for Change </a:t>
            </a:r>
            <a:r>
              <a:rPr b="0" lang="en-GB" sz="2000" spc="-1" strike="noStrike">
                <a:solidFill>
                  <a:srgbClr val="000000"/>
                </a:solidFill>
                <a:latin typeface="Arial"/>
              </a:rPr>
              <a:t>was the subject of an earlier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discusses several tactics that are often used by members of an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people underappreciate the importance of these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sibly because they view them in isolation instead of as being part of an equation for chan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gnoring some of these tactics means ignoring part of an equation for change, so it can hinder the fight to en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a tactic does not appeal to you personally, you should try to support others who use the tac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4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684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aken individually, the tactics discussed in this chapter are not impressive. For exam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mmunity-specific newspaper won’t end oppression by itself</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ikewise for a conference or an anthology of personal accou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cause they can appear unimpressive, many people underappreciate the importance of these tactic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tactics gain importance when viewed as parts of an equation for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 B + C = lessen oppression enough to enable D to occu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 + E + F = build enough pride and self-esteem to facilitate 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 + H = another step towards end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reate a community newspa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48920" y="66600"/>
            <a:ext cx="6411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The need for community newspap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arely report news of interest to an oppressed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report news in a way that supports exist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famous activists started newspapers or magazines for their own communit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or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a:t>
            </a:r>
            <a:r>
              <a:rPr b="0" lang="en-GB" sz="2000" spc="-1" strike="noStrike">
                <a:solidFill>
                  <a:srgbClr val="000000"/>
                </a:solidFill>
                <a:latin typeface="Arial"/>
              </a:rPr>
              <a:t>	</a:t>
            </a:r>
            <a:r>
              <a:rPr b="0" lang="en-GB" sz="2000" spc="-1" strike="noStrike">
                <a:solidFill>
                  <a:srgbClr val="000000"/>
                </a:solidFill>
                <a:latin typeface="Arial"/>
              </a:rPr>
              <a:t>(for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hn Holt</a:t>
            </a:r>
            <a:r>
              <a:rPr b="0" lang="en-GB" sz="2000" spc="-1" strike="noStrike">
                <a:solidFill>
                  <a:srgbClr val="000000"/>
                </a:solidFill>
                <a:latin typeface="Arial"/>
              </a:rPr>
              <a:t>	</a:t>
            </a:r>
            <a:r>
              <a:rPr b="0" lang="en-GB" sz="2000" spc="-1" strike="noStrike">
                <a:solidFill>
                  <a:srgbClr val="000000"/>
                </a:solidFill>
                <a:latin typeface="Arial"/>
              </a:rPr>
              <a:t>(for home-based educ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1080" y="66600"/>
            <a:ext cx="6767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ifficulties for a community newspaper</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roblems faced by many community-specific newspap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re smaller than mainstream newspapers</a:t>
            </a:r>
            <a:br>
              <a:rPr sz="2000"/>
            </a:br>
            <a:r>
              <a:rPr b="0" lang="en-GB" sz="2000" spc="-1" strike="noStrike">
                <a:solidFill>
                  <a:srgbClr val="000000"/>
                </a:solidFill>
                <a:latin typeface="Arial"/>
              </a:rPr>
              <a:t>(so they seem unimpressive by comparis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ticles about community events are less dramatic than articles about national or international issues</a:t>
            </a:r>
            <a:br>
              <a:rPr sz="2000"/>
            </a:br>
            <a:r>
              <a:rPr b="0" lang="en-GB" sz="2000" spc="-1" strike="noStrike">
                <a:solidFill>
                  <a:srgbClr val="000000"/>
                </a:solidFill>
                <a:latin typeface="Arial"/>
              </a:rPr>
              <a:t>(so a community newspaper is often thought of as bor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ct as a concentrated source of information about oppression faced by the community</a:t>
            </a:r>
            <a:br>
              <a:rPr sz="2000"/>
            </a:br>
            <a:r>
              <a:rPr b="0" lang="en-GB" sz="2000" spc="-1" strike="noStrike">
                <a:solidFill>
                  <a:srgbClr val="000000"/>
                </a:solidFill>
                <a:latin typeface="Arial"/>
              </a:rPr>
              <a:t>(the bearer of bad news is often dislik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small readership means funds for running the newspaper are scar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problems can create a vicious circ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newspapers for oppressed communities strugg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32080" y="66600"/>
            <a:ext cx="621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enefits of a community newspap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specific newspaper offers important servic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oppressive events ignored by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and analyse prejudice in mainstream med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help combat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announce community events and advertise community busines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may be used as a source of information for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are important servic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many people perceive the difficulties more strongly than the benefi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don’t want to buy an “unimpressive, boring and depressing” pap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ecause of this, community-specific newspapers are underappreciat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Social groups and con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05160" y="66600"/>
            <a:ext cx="247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ocial group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cial groups for “X” people provide a safe environment for them to meet and be themselv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y are highly valued by people suffering from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nderappreciation of a social group can occur as follo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person, Fred, regularly goes to a social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tending the group helps to reduce Fred’s internalis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Fred recovers, he needs the group’s support less and le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when Fred has recovered enough, he leaves the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red may misunderstand the reason he is leaving:</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group</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group changed and became bo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ight make Fred reluctant to recommend the group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52:47Z</dcterms:modified>
  <cp:revision>1163</cp:revision>
  <dc:subject/>
  <dc:title>Community Newspapers</dc:title>
</cp:coreProperties>
</file>